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6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1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43.jpeg" ContentType="image/jpe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a1"/>
                </a:solidFill>
                <a:latin typeface="Verdana"/>
              </a:rPr>
              <a:t>Click to move the slide</a:t>
            </a: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2DEB8F-AA56-4C93-9AFB-8713DE1918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3E2F59-8EDD-43F8-A52C-31D9D20375E1}" type="slidenum">
              <a:rPr b="0" lang="en-US" sz="12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ount Manag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ustomize this slide with the title name of your presentation. Add your own name, title, and/or da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EF764A-114C-4A07-B40B-A923DD195733}" type="slidenum">
              <a:rPr b="0" lang="en-US" sz="12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Jonathan Che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 Ride Control Systems Engineer at Walt Disney Imaginee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Associate IS (Information Systems) at Amg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gistics Systems Engineer at Raytheon Technical Services Compan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illiam Lu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Civil Engineer and is now a Senior Development Manager at McShane Corporation in Irvine 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A41022A8-4A3F-4503-84D9-E00055F4FFF1}" type="slidenum">
              <a:rPr b="0" lang="en-US" sz="12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A4BB45-7C04-4A52-8F6B-919E63E5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8B0C33-874F-4E02-B81C-C6435437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98600" y="646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58F362-8485-45D0-97EC-A3F0832C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1EE0E9-ED52-4D10-B0FD-117353C5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B7DD39-52DF-474C-A871-C9FBD033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D125C7-A53C-49B2-AB3C-E77F6312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AACA5E-756E-43D7-A886-DD5A6E68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AA01E1-7360-431E-B5BF-6D35DA4EC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6DDD1D-8332-4F0B-8A05-D8BAD148C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98600" y="646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98600" y="646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98600" y="646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322C-1CC2-405E-8E2C-0D83430004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CF1E-A40F-44CF-B9C8-10E65A7E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6851-FC49-4B73-B526-5A014511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E965-AFAF-4FE6-A984-F5891945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51B3-C7A0-4F8D-8157-4441E6558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98600" y="646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C1CC-2DF5-45DF-BBA4-E142110D1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DA54-FF0C-427A-98CC-7566F808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602B-560D-450B-AA12-103A7F7A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9C2B-500D-45D5-A89C-92BF1583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60BB-1D97-4A5A-BA75-D62B7833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E909-5936-40F3-A7F1-D490042A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98600" y="646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687E-70D9-4D40-B9C6-DFFBFDB5DC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98600" y="646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6B2F6C-460B-4516-B524-3E3E055BFF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7E1C9F-A348-4C95-A425-6481A2C4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C99DCB-B014-4647-8521-5C2F046D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45A3C-93F1-433C-ACB4-94FD93B2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91878-E22E-49C2-9326-1F2E5A3D2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98600" y="646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C317D3-720D-4274-AC04-ADFF1C585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5DA4CF-DF47-4C0F-9C6A-BBC09C0A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331FA-685B-438A-91FF-44D726E7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5903F-F865-450B-987C-57B22A63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82BAB1-948F-474C-A655-2FF8B6BC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C9931-E197-48C1-9BBE-E07342F9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A3CF3-D4C4-4880-A0EF-1438709255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FC0FA3-6582-4207-A69D-C72E28EE42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88EC88-9227-47D8-AAB8-9B9CF3FF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05AF9F-9E43-4C0F-BF39-4FE5DA7A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057D69-9624-4C53-9C47-E6088607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E550C3-026E-41FA-9887-F1DB7486B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98600" y="646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B7EE33-0FC9-4F24-B179-3DAFEC45C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AE3707-497A-4A81-B0D7-6F51A4C0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399228-1970-429F-BDC8-764FC4AE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2B7C2D-9AE0-46EA-BA2A-33EED6BB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DE9B4C-CD9B-472A-8B26-88731837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591C50-40DA-41D2-B3A7-2105DC8C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3F7F1B-09FD-49B9-B406-C78AC22493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A1A34C-96C2-4B4B-A4FC-08D99ED0A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7C7A27-4244-482A-AC93-E7527BF5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6162C2-7B3C-4788-ADB0-ED5660C3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13.xml"/><Relationship Id="rId17" Type="http://schemas.openxmlformats.org/officeDocument/2006/relationships/slideLayout" Target="../slideLayouts/slideLayout14.xml"/><Relationship Id="rId18" Type="http://schemas.openxmlformats.org/officeDocument/2006/relationships/slideLayout" Target="../slideLayouts/slideLayout15.xml"/><Relationship Id="rId19" Type="http://schemas.openxmlformats.org/officeDocument/2006/relationships/slideLayout" Target="../slideLayouts/slideLayout16.xml"/><Relationship Id="rId20" Type="http://schemas.openxmlformats.org/officeDocument/2006/relationships/slideLayout" Target="../slideLayouts/slideLayout17.xml"/><Relationship Id="rId21" Type="http://schemas.openxmlformats.org/officeDocument/2006/relationships/slideLayout" Target="../slideLayouts/slideLayout18.xml"/><Relationship Id="rId22" Type="http://schemas.openxmlformats.org/officeDocument/2006/relationships/slideLayout" Target="../slideLayouts/slideLayout19.xml"/><Relationship Id="rId23" Type="http://schemas.openxmlformats.org/officeDocument/2006/relationships/slideLayout" Target="../slideLayouts/slideLayout20.xml"/><Relationship Id="rId24" Type="http://schemas.openxmlformats.org/officeDocument/2006/relationships/slideLayout" Target="../slideLayouts/slideLayout21.xml"/><Relationship Id="rId25" Type="http://schemas.openxmlformats.org/officeDocument/2006/relationships/slideLayout" Target="../slideLayouts/slideLayout22.xml"/><Relationship Id="rId26" Type="http://schemas.openxmlformats.org/officeDocument/2006/relationships/slideLayout" Target="../slideLayouts/slideLayout23.xml"/><Relationship Id="rId2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25.xml"/><Relationship Id="rId14" Type="http://schemas.openxmlformats.org/officeDocument/2006/relationships/slideLayout" Target="../slideLayouts/slideLayout26.xml"/><Relationship Id="rId15" Type="http://schemas.openxmlformats.org/officeDocument/2006/relationships/slideLayout" Target="../slideLayouts/slideLayout27.xml"/><Relationship Id="rId16" Type="http://schemas.openxmlformats.org/officeDocument/2006/relationships/slideLayout" Target="../slideLayouts/slideLayout28.xml"/><Relationship Id="rId17" Type="http://schemas.openxmlformats.org/officeDocument/2006/relationships/slideLayout" Target="../slideLayouts/slideLayout29.xml"/><Relationship Id="rId18" Type="http://schemas.openxmlformats.org/officeDocument/2006/relationships/slideLayout" Target="../slideLayouts/slideLayout30.xml"/><Relationship Id="rId19" Type="http://schemas.openxmlformats.org/officeDocument/2006/relationships/slideLayout" Target="../slideLayouts/slideLayout31.xml"/><Relationship Id="rId20" Type="http://schemas.openxmlformats.org/officeDocument/2006/relationships/slideLayout" Target="../slideLayouts/slideLayout32.xml"/><Relationship Id="rId21" Type="http://schemas.openxmlformats.org/officeDocument/2006/relationships/slideLayout" Target="../slideLayouts/slideLayout33.xml"/><Relationship Id="rId22" Type="http://schemas.openxmlformats.org/officeDocument/2006/relationships/slideLayout" Target="../slideLayouts/slideLayout34.xml"/><Relationship Id="rId23" Type="http://schemas.openxmlformats.org/officeDocument/2006/relationships/slideLayout" Target="../slideLayouts/slideLayout35.xml"/><Relationship Id="rId2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49.xml"/><Relationship Id="rId14" Type="http://schemas.openxmlformats.org/officeDocument/2006/relationships/slideLayout" Target="../slideLayouts/slideLayout50.xml"/><Relationship Id="rId15" Type="http://schemas.openxmlformats.org/officeDocument/2006/relationships/slideLayout" Target="../slideLayouts/slideLayout51.xml"/><Relationship Id="rId16" Type="http://schemas.openxmlformats.org/officeDocument/2006/relationships/slideLayout" Target="../slideLayouts/slideLayout52.xml"/><Relationship Id="rId17" Type="http://schemas.openxmlformats.org/officeDocument/2006/relationships/slideLayout" Target="../slideLayouts/slideLayout53.xml"/><Relationship Id="rId18" Type="http://schemas.openxmlformats.org/officeDocument/2006/relationships/slideLayout" Target="../slideLayouts/slideLayout54.xml"/><Relationship Id="rId19" Type="http://schemas.openxmlformats.org/officeDocument/2006/relationships/slideLayout" Target="../slideLayouts/slideLayout55.xml"/><Relationship Id="rId20" Type="http://schemas.openxmlformats.org/officeDocument/2006/relationships/slideLayout" Target="../slideLayouts/slideLayout56.xml"/><Relationship Id="rId21" Type="http://schemas.openxmlformats.org/officeDocument/2006/relationships/slideLayout" Target="../slideLayouts/slideLayout57.xml"/><Relationship Id="rId22" Type="http://schemas.openxmlformats.org/officeDocument/2006/relationships/slideLayout" Target="../slideLayouts/slideLayout58.xml"/><Relationship Id="rId23" Type="http://schemas.openxmlformats.org/officeDocument/2006/relationships/slideLayout" Target="../slideLayouts/slideLayout59.xml"/><Relationship Id="rId2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61.xml"/><Relationship Id="rId12" Type="http://schemas.openxmlformats.org/officeDocument/2006/relationships/slideLayout" Target="../slideLayouts/slideLayout62.xml"/><Relationship Id="rId13" Type="http://schemas.openxmlformats.org/officeDocument/2006/relationships/slideLayout" Target="../slideLayouts/slideLayout63.xml"/><Relationship Id="rId14" Type="http://schemas.openxmlformats.org/officeDocument/2006/relationships/slideLayout" Target="../slideLayouts/slideLayout64.xml"/><Relationship Id="rId15" Type="http://schemas.openxmlformats.org/officeDocument/2006/relationships/slideLayout" Target="../slideLayouts/slideLayout65.xml"/><Relationship Id="rId16" Type="http://schemas.openxmlformats.org/officeDocument/2006/relationships/slideLayout" Target="../slideLayouts/slideLayout66.xml"/><Relationship Id="rId17" Type="http://schemas.openxmlformats.org/officeDocument/2006/relationships/slideLayout" Target="../slideLayouts/slideLayout67.xml"/><Relationship Id="rId18" Type="http://schemas.openxmlformats.org/officeDocument/2006/relationships/slideLayout" Target="../slideLayouts/slideLayout68.xml"/><Relationship Id="rId19" Type="http://schemas.openxmlformats.org/officeDocument/2006/relationships/slideLayout" Target="../slideLayouts/slideLayout69.xml"/><Relationship Id="rId20" Type="http://schemas.openxmlformats.org/officeDocument/2006/relationships/slideLayout" Target="../slideLayouts/slideLayout70.xml"/><Relationship Id="rId21" Type="http://schemas.openxmlformats.org/officeDocument/2006/relationships/slideLayout" Target="../slideLayouts/slideLayout71.xml"/><Relationship Id="rId2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73.xml"/><Relationship Id="rId14" Type="http://schemas.openxmlformats.org/officeDocument/2006/relationships/slideLayout" Target="../slideLayouts/slideLayout74.xml"/><Relationship Id="rId15" Type="http://schemas.openxmlformats.org/officeDocument/2006/relationships/slideLayout" Target="../slideLayouts/slideLayout75.xml"/><Relationship Id="rId16" Type="http://schemas.openxmlformats.org/officeDocument/2006/relationships/slideLayout" Target="../slideLayouts/slideLayout76.xml"/><Relationship Id="rId17" Type="http://schemas.openxmlformats.org/officeDocument/2006/relationships/slideLayout" Target="../slideLayouts/slideLayout77.xml"/><Relationship Id="rId18" Type="http://schemas.openxmlformats.org/officeDocument/2006/relationships/slideLayout" Target="../slideLayouts/slideLayout78.xml"/><Relationship Id="rId19" Type="http://schemas.openxmlformats.org/officeDocument/2006/relationships/slideLayout" Target="../slideLayouts/slideLayout79.xml"/><Relationship Id="rId20" Type="http://schemas.openxmlformats.org/officeDocument/2006/relationships/slideLayout" Target="../slideLayouts/slideLayout80.xml"/><Relationship Id="rId21" Type="http://schemas.openxmlformats.org/officeDocument/2006/relationships/slideLayout" Target="../slideLayouts/slideLayout81.xml"/><Relationship Id="rId22" Type="http://schemas.openxmlformats.org/officeDocument/2006/relationships/slideLayout" Target="../slideLayouts/slideLayout82.xml"/><Relationship Id="rId23" Type="http://schemas.openxmlformats.org/officeDocument/2006/relationships/slideLayout" Target="../slideLayouts/slideLayout83.xml"/><Relationship Id="rId2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85.xml"/><Relationship Id="rId14" Type="http://schemas.openxmlformats.org/officeDocument/2006/relationships/slideLayout" Target="../slideLayouts/slideLayout86.xml"/><Relationship Id="rId15" Type="http://schemas.openxmlformats.org/officeDocument/2006/relationships/slideLayout" Target="../slideLayouts/slideLayout87.xml"/><Relationship Id="rId16" Type="http://schemas.openxmlformats.org/officeDocument/2006/relationships/slideLayout" Target="../slideLayouts/slideLayout88.xml"/><Relationship Id="rId17" Type="http://schemas.openxmlformats.org/officeDocument/2006/relationships/slideLayout" Target="../slideLayouts/slideLayout89.xml"/><Relationship Id="rId18" Type="http://schemas.openxmlformats.org/officeDocument/2006/relationships/slideLayout" Target="../slideLayouts/slideLayout90.xml"/><Relationship Id="rId19" Type="http://schemas.openxmlformats.org/officeDocument/2006/relationships/slideLayout" Target="../slideLayouts/slideLayout91.xml"/><Relationship Id="rId20" Type="http://schemas.openxmlformats.org/officeDocument/2006/relationships/slideLayout" Target="../slideLayouts/slideLayout92.xml"/><Relationship Id="rId21" Type="http://schemas.openxmlformats.org/officeDocument/2006/relationships/slideLayout" Target="../slideLayouts/slideLayout93.xml"/><Relationship Id="rId22" Type="http://schemas.openxmlformats.org/officeDocument/2006/relationships/slideLayout" Target="../slideLayouts/slideLayout94.xml"/><Relationship Id="rId23" Type="http://schemas.openxmlformats.org/officeDocument/2006/relationships/slideLayout" Target="../slideLayouts/slideLayout95.xml"/><Relationship Id="rId2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97.xml"/><Relationship Id="rId14" Type="http://schemas.openxmlformats.org/officeDocument/2006/relationships/slideLayout" Target="../slideLayouts/slideLayout98.xml"/><Relationship Id="rId15" Type="http://schemas.openxmlformats.org/officeDocument/2006/relationships/slideLayout" Target="../slideLayouts/slideLayout99.xml"/><Relationship Id="rId16" Type="http://schemas.openxmlformats.org/officeDocument/2006/relationships/slideLayout" Target="../slideLayouts/slideLayout100.xml"/><Relationship Id="rId17" Type="http://schemas.openxmlformats.org/officeDocument/2006/relationships/slideLayout" Target="../slideLayouts/slideLayout101.xml"/><Relationship Id="rId18" Type="http://schemas.openxmlformats.org/officeDocument/2006/relationships/slideLayout" Target="../slideLayouts/slideLayout102.xml"/><Relationship Id="rId19" Type="http://schemas.openxmlformats.org/officeDocument/2006/relationships/slideLayout" Target="../slideLayouts/slideLayout103.xml"/><Relationship Id="rId20" Type="http://schemas.openxmlformats.org/officeDocument/2006/relationships/slideLayout" Target="../slideLayouts/slideLayout104.xml"/><Relationship Id="rId21" Type="http://schemas.openxmlformats.org/officeDocument/2006/relationships/slideLayout" Target="../slideLayouts/slideLayout105.xml"/><Relationship Id="rId22" Type="http://schemas.openxmlformats.org/officeDocument/2006/relationships/slideLayout" Target="../slideLayouts/slideLayout106.xml"/><Relationship Id="rId23" Type="http://schemas.openxmlformats.org/officeDocument/2006/relationships/slideLayout" Target="../slideLayouts/slideLayout107.xml"/><Relationship Id="rId2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a1"/>
                </a:solidFill>
                <a:latin typeface="Verdana"/>
              </a:rPr>
              <a:t>Click to edit the title text format</a:t>
            </a: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  <a:p>
            <a:pPr lvl="1" marL="625320" indent="-34272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  <a:p>
            <a:pPr lvl="2" marL="863640" indent="-285840"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  <a:p>
            <a:pPr lvl="3" marL="1146240" indent="-28584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  <a:p>
            <a:pPr lvl="4" marL="1428840" indent="-28584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  <a:p>
            <a:pPr lvl="5" marL="1428840" indent="-28584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  <a:p>
            <a:pPr lvl="6" marL="1428840" indent="-28584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300320" y="6298920"/>
            <a:ext cx="29923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grpSp>
        <p:nvGrpSpPr>
          <p:cNvPr id="3" name="Group 1"/>
          <p:cNvGrpSpPr/>
          <p:nvPr/>
        </p:nvGrpSpPr>
        <p:grpSpPr>
          <a:xfrm>
            <a:off x="610920" y="6515280"/>
            <a:ext cx="8542440" cy="352080"/>
            <a:chOff x="610920" y="6515280"/>
            <a:chExt cx="8542440" cy="352080"/>
          </a:xfrm>
        </p:grpSpPr>
        <p:sp>
          <p:nvSpPr>
            <p:cNvPr id="4" name="Rectangle 24"/>
            <p:cNvSpPr/>
            <p:nvPr/>
          </p:nvSpPr>
          <p:spPr>
            <a:xfrm flipV="1">
              <a:off x="1272960" y="6515280"/>
              <a:ext cx="7880400" cy="352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404040"/>
                </a:solidFill>
                <a:latin typeface="Arial"/>
              </a:endParaRPr>
            </a:p>
          </p:txBody>
        </p:sp>
        <p:sp>
          <p:nvSpPr>
            <p:cNvPr id="5" name="Right Triangle 25"/>
            <p:cNvSpPr/>
            <p:nvPr/>
          </p:nvSpPr>
          <p:spPr>
            <a:xfrm flipH="1">
              <a:off x="610560" y="6515280"/>
              <a:ext cx="672840" cy="352080"/>
            </a:xfrm>
            <a:prstGeom prst="rtTriangl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404040"/>
                </a:solidFill>
                <a:latin typeface="Arial"/>
              </a:endParaRPr>
            </a:p>
          </p:txBody>
        </p:sp>
      </p:grpSp>
      <p:pic>
        <p:nvPicPr>
          <p:cNvPr id="6" name="Group 26" descr=""/>
          <p:cNvPicPr/>
          <p:nvPr/>
        </p:nvPicPr>
        <p:blipFill>
          <a:blip r:embed="rId10"/>
          <a:stretch/>
        </p:blipFill>
        <p:spPr>
          <a:xfrm>
            <a:off x="774720" y="6595920"/>
            <a:ext cx="8375760" cy="268560"/>
          </a:xfrm>
          <a:prstGeom prst="rect">
            <a:avLst/>
          </a:prstGeom>
          <a:ln w="0">
            <a:noFill/>
          </a:ln>
        </p:spPr>
      </p:pic>
      <p:pic>
        <p:nvPicPr>
          <p:cNvPr id="7" name="Group 29" descr=""/>
          <p:cNvPicPr/>
          <p:nvPr/>
        </p:nvPicPr>
        <p:blipFill>
          <a:blip r:embed="rId11"/>
          <a:stretch/>
        </p:blipFill>
        <p:spPr>
          <a:xfrm>
            <a:off x="-6480" y="0"/>
            <a:ext cx="8375760" cy="2682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6" descr=""/>
          <p:cNvPicPr/>
          <p:nvPr/>
        </p:nvPicPr>
        <p:blipFill>
          <a:blip r:embed="rId12"/>
          <a:stretch/>
        </p:blipFill>
        <p:spPr>
          <a:xfrm>
            <a:off x="7794720" y="6059520"/>
            <a:ext cx="1143000" cy="40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"/>
          <p:cNvGrpSpPr/>
          <p:nvPr/>
        </p:nvGrpSpPr>
        <p:grpSpPr>
          <a:xfrm>
            <a:off x="610920" y="6515280"/>
            <a:ext cx="8542440" cy="352080"/>
            <a:chOff x="610920" y="6515280"/>
            <a:chExt cx="8542440" cy="352080"/>
          </a:xfrm>
        </p:grpSpPr>
        <p:sp>
          <p:nvSpPr>
            <p:cNvPr id="46" name="Rectangle 24"/>
            <p:cNvSpPr/>
            <p:nvPr/>
          </p:nvSpPr>
          <p:spPr>
            <a:xfrm flipV="1">
              <a:off x="1272960" y="6515280"/>
              <a:ext cx="7880400" cy="352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404040"/>
                </a:solidFill>
                <a:latin typeface="Arial"/>
              </a:endParaRPr>
            </a:p>
          </p:txBody>
        </p:sp>
        <p:sp>
          <p:nvSpPr>
            <p:cNvPr id="47" name="Right Triangle 25"/>
            <p:cNvSpPr/>
            <p:nvPr/>
          </p:nvSpPr>
          <p:spPr>
            <a:xfrm flipH="1">
              <a:off x="610560" y="6515280"/>
              <a:ext cx="672840" cy="352080"/>
            </a:xfrm>
            <a:prstGeom prst="rtTriangl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404040"/>
                </a:solidFill>
                <a:latin typeface="Arial"/>
              </a:endParaRPr>
            </a:p>
          </p:txBody>
        </p:sp>
      </p:grpSp>
      <p:pic>
        <p:nvPicPr>
          <p:cNvPr id="48" name="Group 26" descr=""/>
          <p:cNvPicPr/>
          <p:nvPr/>
        </p:nvPicPr>
        <p:blipFill>
          <a:blip r:embed="rId3"/>
          <a:stretch/>
        </p:blipFill>
        <p:spPr>
          <a:xfrm>
            <a:off x="774720" y="6595920"/>
            <a:ext cx="8375760" cy="268560"/>
          </a:xfrm>
          <a:prstGeom prst="rect">
            <a:avLst/>
          </a:prstGeom>
          <a:ln w="0">
            <a:noFill/>
          </a:ln>
        </p:spPr>
      </p:pic>
      <p:pic>
        <p:nvPicPr>
          <p:cNvPr id="49" name="Group 29" descr=""/>
          <p:cNvPicPr/>
          <p:nvPr/>
        </p:nvPicPr>
        <p:blipFill>
          <a:blip r:embed="rId4"/>
          <a:stretch/>
        </p:blipFill>
        <p:spPr>
          <a:xfrm>
            <a:off x="-6480" y="0"/>
            <a:ext cx="8375760" cy="268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5"/>
          <a:stretch/>
        </p:blipFill>
        <p:spPr>
          <a:xfrm>
            <a:off x="7794720" y="6059520"/>
            <a:ext cx="1143000" cy="406440"/>
          </a:xfrm>
          <a:prstGeom prst="rect">
            <a:avLst/>
          </a:prstGeom>
          <a:ln w="0">
            <a:noFill/>
          </a:ln>
        </p:spPr>
      </p:pic>
      <p:grpSp>
        <p:nvGrpSpPr>
          <p:cNvPr id="51" name="Rectangle 1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2" name="Rectangle 14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404040"/>
                </a:solidFill>
                <a:latin typeface="Arial"/>
              </a:endParaRPr>
            </a:p>
          </p:txBody>
        </p:sp>
      </p:grpSp>
      <p:sp>
        <p:nvSpPr>
          <p:cNvPr id="54" name="Snip Single Corner Rectangle 15"/>
          <p:cNvSpPr/>
          <p:nvPr/>
        </p:nvSpPr>
        <p:spPr>
          <a:xfrm flipH="1">
            <a:off x="0" y="3191040"/>
            <a:ext cx="9144000" cy="3666960"/>
          </a:xfrm>
          <a:custGeom>
            <a:avLst/>
            <a:gdLst/>
            <a:ahLst/>
            <a:rect l="l" t="t" r="r" b="b"/>
            <a:pathLst>
              <a:path w="9144000" h="3667125">
                <a:moveTo>
                  <a:pt x="0" y="0"/>
                </a:moveTo>
                <a:lnTo>
                  <a:pt x="8532800" y="0"/>
                </a:lnTo>
                <a:lnTo>
                  <a:pt x="9144000" y="611200"/>
                </a:lnTo>
                <a:lnTo>
                  <a:pt x="9144000" y="3667125"/>
                </a:lnTo>
                <a:lnTo>
                  <a:pt x="0" y="3667125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55" name="Group 6" descr=""/>
          <p:cNvPicPr/>
          <p:nvPr/>
        </p:nvPicPr>
        <p:blipFill>
          <a:blip r:embed="rId7"/>
          <a:stretch/>
        </p:blipFill>
        <p:spPr>
          <a:xfrm>
            <a:off x="0" y="0"/>
            <a:ext cx="8375760" cy="268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8"/>
          <a:stretch/>
        </p:blipFill>
        <p:spPr>
          <a:xfrm>
            <a:off x="7794720" y="6311880"/>
            <a:ext cx="1143000" cy="4064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a1"/>
                </a:solidFill>
                <a:latin typeface="Verdana"/>
              </a:rPr>
              <a:t>Click to edit the title text format</a:t>
            </a: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  <a:p>
            <a:pPr lvl="1" marL="625320" indent="-342720">
              <a:spcBef>
                <a:spcPts val="20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  <a:p>
            <a:pPr lvl="2" marL="863640" indent="-285840">
              <a:spcBef>
                <a:spcPts val="20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  <a:p>
            <a:pPr lvl="3" marL="1146240" indent="-285840">
              <a:spcBef>
                <a:spcPts val="20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  <a:p>
            <a:pPr lvl="4" marL="1428840" indent="-285840">
              <a:spcBef>
                <a:spcPts val="200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  <a:p>
            <a:pPr lvl="5" marL="1428840" indent="-285840">
              <a:spcBef>
                <a:spcPts val="2001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  <a:p>
            <a:pPr lvl="6" marL="1428840" indent="-285840">
              <a:spcBef>
                <a:spcPts val="2001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6"/>
    <p:sldLayoutId id="2147483663" r:id="rId17"/>
    <p:sldLayoutId id="2147483664" r:id="rId18"/>
    <p:sldLayoutId id="2147483665" r:id="rId19"/>
    <p:sldLayoutId id="2147483666" r:id="rId20"/>
    <p:sldLayoutId id="2147483667" r:id="rId21"/>
    <p:sldLayoutId id="2147483668" r:id="rId22"/>
    <p:sldLayoutId id="2147483669" r:id="rId23"/>
    <p:sldLayoutId id="2147483670" r:id="rId24"/>
    <p:sldLayoutId id="2147483671" r:id="rId25"/>
    <p:sldLayoutId id="2147483672" r:id="rId26"/>
    <p:sldLayoutId id="2147483673" r:id="rId2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"/>
          <p:cNvGrpSpPr/>
          <p:nvPr/>
        </p:nvGrpSpPr>
        <p:grpSpPr>
          <a:xfrm>
            <a:off x="610920" y="6515280"/>
            <a:ext cx="8542440" cy="352080"/>
            <a:chOff x="610920" y="6515280"/>
            <a:chExt cx="8542440" cy="352080"/>
          </a:xfrm>
        </p:grpSpPr>
        <p:sp>
          <p:nvSpPr>
            <p:cNvPr id="96" name="Rectangle 24"/>
            <p:cNvSpPr/>
            <p:nvPr/>
          </p:nvSpPr>
          <p:spPr>
            <a:xfrm flipV="1">
              <a:off x="1272960" y="6515280"/>
              <a:ext cx="7880400" cy="352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404040"/>
                </a:solidFill>
                <a:latin typeface="Arial"/>
              </a:endParaRPr>
            </a:p>
          </p:txBody>
        </p:sp>
        <p:sp>
          <p:nvSpPr>
            <p:cNvPr id="97" name="Right Triangle 25"/>
            <p:cNvSpPr/>
            <p:nvPr/>
          </p:nvSpPr>
          <p:spPr>
            <a:xfrm flipH="1">
              <a:off x="610560" y="6515280"/>
              <a:ext cx="672840" cy="352080"/>
            </a:xfrm>
            <a:prstGeom prst="rtTriangl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404040"/>
                </a:solidFill>
                <a:latin typeface="Arial"/>
              </a:endParaRPr>
            </a:p>
          </p:txBody>
        </p:sp>
      </p:grpSp>
      <p:pic>
        <p:nvPicPr>
          <p:cNvPr id="98" name="Group 26" descr=""/>
          <p:cNvPicPr/>
          <p:nvPr/>
        </p:nvPicPr>
        <p:blipFill>
          <a:blip r:embed="rId3"/>
          <a:stretch/>
        </p:blipFill>
        <p:spPr>
          <a:xfrm>
            <a:off x="774720" y="6595920"/>
            <a:ext cx="8375760" cy="268560"/>
          </a:xfrm>
          <a:prstGeom prst="rect">
            <a:avLst/>
          </a:prstGeom>
          <a:ln w="0">
            <a:noFill/>
          </a:ln>
        </p:spPr>
      </p:pic>
      <p:pic>
        <p:nvPicPr>
          <p:cNvPr id="99" name="Group 29" descr=""/>
          <p:cNvPicPr/>
          <p:nvPr/>
        </p:nvPicPr>
        <p:blipFill>
          <a:blip r:embed="rId4"/>
          <a:stretch/>
        </p:blipFill>
        <p:spPr>
          <a:xfrm>
            <a:off x="-6480" y="0"/>
            <a:ext cx="8375760" cy="268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5"/>
          <a:stretch/>
        </p:blipFill>
        <p:spPr>
          <a:xfrm>
            <a:off x="7794720" y="6059520"/>
            <a:ext cx="1143000" cy="406440"/>
          </a:xfrm>
          <a:prstGeom prst="rect">
            <a:avLst/>
          </a:prstGeom>
          <a:ln w="0">
            <a:noFill/>
          </a:ln>
        </p:spPr>
      </p:pic>
      <p:sp>
        <p:nvSpPr>
          <p:cNvPr id="101" name="Straight Connector 14"/>
          <p:cNvSpPr/>
          <p:nvPr/>
        </p:nvSpPr>
        <p:spPr>
          <a:xfrm>
            <a:off x="-317520" y="2043000"/>
            <a:ext cx="8477280" cy="0"/>
          </a:xfrm>
          <a:prstGeom prst="line">
            <a:avLst/>
          </a:prstGeom>
          <a:ln w="12600">
            <a:solidFill>
              <a:srgbClr val="009f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2" name="Straight Connector 15"/>
          <p:cNvSpPr/>
          <p:nvPr/>
        </p:nvSpPr>
        <p:spPr>
          <a:xfrm>
            <a:off x="730080" y="4040280"/>
            <a:ext cx="8477280" cy="0"/>
          </a:xfrm>
          <a:prstGeom prst="line">
            <a:avLst/>
          </a:prstGeom>
          <a:ln w="12600">
            <a:solidFill>
              <a:srgbClr val="009f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a1"/>
                </a:solidFill>
                <a:latin typeface="Verdana"/>
              </a:rPr>
              <a:t>Click to edit the title text format</a:t>
            </a: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  <a:p>
            <a:pPr lvl="1" marL="625320" indent="-34272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  <a:p>
            <a:pPr lvl="2" marL="863640" indent="-28584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  <a:p>
            <a:pPr lvl="3" marL="1146240" indent="-28584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  <a:p>
            <a:pPr lvl="4" marL="1428840" indent="-285840">
              <a:spcBef>
                <a:spcPts val="20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  <a:p>
            <a:pPr lvl="5" marL="1428840" indent="-285840">
              <a:spcBef>
                <a:spcPts val="20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  <a:p>
            <a:pPr lvl="6" marL="1428840" indent="-285840">
              <a:spcBef>
                <a:spcPts val="20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3"/>
    <p:sldLayoutId id="2147483676" r:id="rId14"/>
    <p:sldLayoutId id="2147483677" r:id="rId15"/>
    <p:sldLayoutId id="2147483678" r:id="rId16"/>
    <p:sldLayoutId id="2147483679" r:id="rId17"/>
    <p:sldLayoutId id="2147483680" r:id="rId18"/>
    <p:sldLayoutId id="2147483681" r:id="rId19"/>
    <p:sldLayoutId id="2147483682" r:id="rId20"/>
    <p:sldLayoutId id="2147483683" r:id="rId21"/>
    <p:sldLayoutId id="2147483684" r:id="rId22"/>
    <p:sldLayoutId id="2147483685" r:id="rId23"/>
    <p:sldLayoutId id="2147483686" r:id="rId2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a1"/>
                </a:solidFill>
                <a:latin typeface="Verdana"/>
              </a:rPr>
              <a:t>Click to edit the title text format</a:t>
            </a: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  <a:p>
            <a:pPr lvl="1" marL="625320" indent="-34272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  <a:p>
            <a:pPr lvl="2" marL="863640" indent="-285840"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  <a:p>
            <a:pPr lvl="3" marL="1146240" indent="-28584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  <a:p>
            <a:pPr lvl="4" marL="1428840" indent="-28584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  <a:p>
            <a:pPr lvl="5" marL="1428840" indent="-28584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  <a:p>
            <a:pPr lvl="6" marL="1428840" indent="-28584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1"/>
          <p:cNvGrpSpPr/>
          <p:nvPr/>
        </p:nvGrpSpPr>
        <p:grpSpPr>
          <a:xfrm>
            <a:off x="610920" y="6515280"/>
            <a:ext cx="8542440" cy="352080"/>
            <a:chOff x="610920" y="6515280"/>
            <a:chExt cx="8542440" cy="352080"/>
          </a:xfrm>
        </p:grpSpPr>
        <p:sp>
          <p:nvSpPr>
            <p:cNvPr id="180" name="Rectangle 24"/>
            <p:cNvSpPr/>
            <p:nvPr/>
          </p:nvSpPr>
          <p:spPr>
            <a:xfrm flipV="1">
              <a:off x="1272960" y="6515280"/>
              <a:ext cx="7880400" cy="352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404040"/>
                </a:solidFill>
                <a:latin typeface="Arial"/>
              </a:endParaRPr>
            </a:p>
          </p:txBody>
        </p:sp>
        <p:sp>
          <p:nvSpPr>
            <p:cNvPr id="181" name="Right Triangle 25"/>
            <p:cNvSpPr/>
            <p:nvPr/>
          </p:nvSpPr>
          <p:spPr>
            <a:xfrm flipH="1">
              <a:off x="610560" y="6515280"/>
              <a:ext cx="672840" cy="352080"/>
            </a:xfrm>
            <a:prstGeom prst="rtTriangl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404040"/>
                </a:solidFill>
                <a:latin typeface="Arial"/>
              </a:endParaRPr>
            </a:p>
          </p:txBody>
        </p:sp>
      </p:grpSp>
      <p:pic>
        <p:nvPicPr>
          <p:cNvPr id="182" name="Group 26" descr=""/>
          <p:cNvPicPr/>
          <p:nvPr/>
        </p:nvPicPr>
        <p:blipFill>
          <a:blip r:embed="rId3"/>
          <a:stretch/>
        </p:blipFill>
        <p:spPr>
          <a:xfrm>
            <a:off x="774720" y="6595920"/>
            <a:ext cx="8375760" cy="268560"/>
          </a:xfrm>
          <a:prstGeom prst="rect">
            <a:avLst/>
          </a:prstGeom>
          <a:ln w="0">
            <a:noFill/>
          </a:ln>
        </p:spPr>
      </p:pic>
      <p:pic>
        <p:nvPicPr>
          <p:cNvPr id="183" name="Group 29" descr=""/>
          <p:cNvPicPr/>
          <p:nvPr/>
        </p:nvPicPr>
        <p:blipFill>
          <a:blip r:embed="rId4"/>
          <a:stretch/>
        </p:blipFill>
        <p:spPr>
          <a:xfrm>
            <a:off x="-6480" y="0"/>
            <a:ext cx="8375760" cy="268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"/>
          <p:cNvPicPr/>
          <p:nvPr/>
        </p:nvPicPr>
        <p:blipFill>
          <a:blip r:embed="rId5"/>
          <a:stretch/>
        </p:blipFill>
        <p:spPr>
          <a:xfrm>
            <a:off x="7794720" y="6059520"/>
            <a:ext cx="1143000" cy="4064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a1"/>
                </a:solidFill>
                <a:latin typeface="Verdana"/>
              </a:rPr>
              <a:t>Click to edit the title text format</a:t>
            </a: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  <a:p>
            <a:pPr lvl="1" marL="625320" indent="-34272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  <a:p>
            <a:pPr lvl="2" marL="863640" indent="-28584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  <a:p>
            <a:pPr lvl="3" marL="1146240" indent="-28584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  <a:p>
            <a:pPr lvl="4" marL="1428840" indent="-285840">
              <a:spcBef>
                <a:spcPts val="20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  <a:p>
            <a:pPr lvl="5" marL="1428840" indent="-285840">
              <a:spcBef>
                <a:spcPts val="20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  <a:p>
            <a:pPr lvl="6" marL="1428840" indent="-285840">
              <a:spcBef>
                <a:spcPts val="20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2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A50A66-4A08-4CF3-AD08-242111F849C6}" type="datetime"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3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BEC389-2D74-44B5-8FCB-1C7345FFF140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3"/>
    <p:sldLayoutId id="2147483702" r:id="rId14"/>
    <p:sldLayoutId id="2147483703" r:id="rId15"/>
    <p:sldLayoutId id="2147483704" r:id="rId16"/>
    <p:sldLayoutId id="2147483705" r:id="rId17"/>
    <p:sldLayoutId id="2147483706" r:id="rId18"/>
    <p:sldLayoutId id="2147483707" r:id="rId19"/>
    <p:sldLayoutId id="2147483708" r:id="rId20"/>
    <p:sldLayoutId id="2147483709" r:id="rId21"/>
    <p:sldLayoutId id="2147483710" r:id="rId22"/>
    <p:sldLayoutId id="2147483711" r:id="rId23"/>
    <p:sldLayoutId id="2147483712" r:id="rId2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6" descr="IEEE_TAG_BLUE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411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a1"/>
                </a:solidFill>
                <a:latin typeface="Verdana"/>
              </a:rPr>
              <a:t>Click to edit the title text format</a:t>
            </a: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  <a:p>
            <a:pPr lvl="1" marL="625320" indent="-342720"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  <a:p>
            <a:pPr lvl="2" marL="863640" indent="-28584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  <a:p>
            <a:pPr lvl="3" marL="1146240" indent="-28584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  <a:p>
            <a:pPr lvl="4" marL="1428840" indent="-28584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  <a:p>
            <a:pPr lvl="5" marL="1428840" indent="-28584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  <a:p>
            <a:pPr lvl="6" marL="1428840" indent="-285840">
              <a:spcBef>
                <a:spcPts val="20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1"/>
    <p:sldLayoutId id="2147483715" r:id="rId12"/>
    <p:sldLayoutId id="2147483716" r:id="rId13"/>
    <p:sldLayoutId id="2147483717" r:id="rId14"/>
    <p:sldLayoutId id="2147483718" r:id="rId15"/>
    <p:sldLayoutId id="2147483719" r:id="rId16"/>
    <p:sldLayoutId id="2147483720" r:id="rId17"/>
    <p:sldLayoutId id="2147483721" r:id="rId18"/>
    <p:sldLayoutId id="2147483722" r:id="rId19"/>
    <p:sldLayoutId id="2147483723" r:id="rId20"/>
    <p:sldLayoutId id="2147483724" r:id="rId21"/>
    <p:sldLayoutId id="2147483725" r:id="rId2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1"/>
          <p:cNvGrpSpPr/>
          <p:nvPr/>
        </p:nvGrpSpPr>
        <p:grpSpPr>
          <a:xfrm>
            <a:off x="610920" y="6515280"/>
            <a:ext cx="8542440" cy="352080"/>
            <a:chOff x="610920" y="6515280"/>
            <a:chExt cx="8542440" cy="352080"/>
          </a:xfrm>
        </p:grpSpPr>
        <p:sp>
          <p:nvSpPr>
            <p:cNvPr id="265" name="Rectangle 24"/>
            <p:cNvSpPr/>
            <p:nvPr/>
          </p:nvSpPr>
          <p:spPr>
            <a:xfrm flipV="1">
              <a:off x="1272960" y="6515280"/>
              <a:ext cx="7880400" cy="352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404040"/>
                </a:solidFill>
                <a:latin typeface="Arial"/>
              </a:endParaRPr>
            </a:p>
          </p:txBody>
        </p:sp>
        <p:sp>
          <p:nvSpPr>
            <p:cNvPr id="266" name="Right Triangle 25"/>
            <p:cNvSpPr/>
            <p:nvPr/>
          </p:nvSpPr>
          <p:spPr>
            <a:xfrm flipH="1">
              <a:off x="610560" y="6515280"/>
              <a:ext cx="672840" cy="352080"/>
            </a:xfrm>
            <a:prstGeom prst="rtTriangl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404040"/>
                </a:solidFill>
                <a:latin typeface="Arial"/>
              </a:endParaRPr>
            </a:p>
          </p:txBody>
        </p:sp>
      </p:grpSp>
      <p:pic>
        <p:nvPicPr>
          <p:cNvPr id="267" name="Group 26" descr=""/>
          <p:cNvPicPr/>
          <p:nvPr/>
        </p:nvPicPr>
        <p:blipFill>
          <a:blip r:embed="rId3"/>
          <a:stretch/>
        </p:blipFill>
        <p:spPr>
          <a:xfrm>
            <a:off x="774720" y="6595920"/>
            <a:ext cx="8375760" cy="268560"/>
          </a:xfrm>
          <a:prstGeom prst="rect">
            <a:avLst/>
          </a:prstGeom>
          <a:ln w="0">
            <a:noFill/>
          </a:ln>
        </p:spPr>
      </p:pic>
      <p:pic>
        <p:nvPicPr>
          <p:cNvPr id="268" name="Group 29" descr=""/>
          <p:cNvPicPr/>
          <p:nvPr/>
        </p:nvPicPr>
        <p:blipFill>
          <a:blip r:embed="rId4"/>
          <a:stretch/>
        </p:blipFill>
        <p:spPr>
          <a:xfrm>
            <a:off x="-6480" y="0"/>
            <a:ext cx="8375760" cy="2682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"/>
          <p:cNvPicPr/>
          <p:nvPr/>
        </p:nvPicPr>
        <p:blipFill>
          <a:blip r:embed="rId5"/>
          <a:stretch/>
        </p:blipFill>
        <p:spPr>
          <a:xfrm>
            <a:off x="7794720" y="6059520"/>
            <a:ext cx="1143000" cy="40644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a1"/>
                </a:solidFill>
                <a:latin typeface="Verdana"/>
              </a:rPr>
              <a:t>Click to edit the title text format</a:t>
            </a: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  <a:p>
            <a:pPr lvl="1" marL="625320" indent="-34272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  <a:p>
            <a:pPr lvl="2" marL="863640" indent="-28584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  <a:p>
            <a:pPr lvl="3" marL="1146240" indent="-28584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  <a:p>
            <a:pPr lvl="4" marL="1428840" indent="-285840">
              <a:spcBef>
                <a:spcPts val="20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  <a:p>
            <a:pPr lvl="5" marL="1428840" indent="-285840">
              <a:spcBef>
                <a:spcPts val="20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  <a:p>
            <a:pPr lvl="6" marL="1428840" indent="-285840">
              <a:spcBef>
                <a:spcPts val="20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4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CBFBA0-3311-440C-A4D7-E15DCD8E6E4D}" type="datetime"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sldNum" idx="5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FD3479-4B01-445B-A3D1-B81D0A8D7713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3"/>
    <p:sldLayoutId id="2147483728" r:id="rId14"/>
    <p:sldLayoutId id="2147483729" r:id="rId15"/>
    <p:sldLayoutId id="2147483730" r:id="rId16"/>
    <p:sldLayoutId id="2147483731" r:id="rId17"/>
    <p:sldLayoutId id="2147483732" r:id="rId18"/>
    <p:sldLayoutId id="2147483733" r:id="rId19"/>
    <p:sldLayoutId id="2147483734" r:id="rId20"/>
    <p:sldLayoutId id="2147483735" r:id="rId21"/>
    <p:sldLayoutId id="2147483736" r:id="rId22"/>
    <p:sldLayoutId id="2147483737" r:id="rId23"/>
    <p:sldLayoutId id="2147483738" r:id="rId2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1"/>
          <p:cNvGrpSpPr/>
          <p:nvPr/>
        </p:nvGrpSpPr>
        <p:grpSpPr>
          <a:xfrm>
            <a:off x="610920" y="6515280"/>
            <a:ext cx="8542440" cy="352080"/>
            <a:chOff x="610920" y="6515280"/>
            <a:chExt cx="8542440" cy="352080"/>
          </a:xfrm>
        </p:grpSpPr>
        <p:sp>
          <p:nvSpPr>
            <p:cNvPr id="311" name="Rectangle 24"/>
            <p:cNvSpPr/>
            <p:nvPr/>
          </p:nvSpPr>
          <p:spPr>
            <a:xfrm flipV="1">
              <a:off x="1272960" y="6515280"/>
              <a:ext cx="7880400" cy="352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404040"/>
                </a:solidFill>
                <a:latin typeface="Arial"/>
              </a:endParaRPr>
            </a:p>
          </p:txBody>
        </p:sp>
        <p:sp>
          <p:nvSpPr>
            <p:cNvPr id="312" name="Right Triangle 25"/>
            <p:cNvSpPr/>
            <p:nvPr/>
          </p:nvSpPr>
          <p:spPr>
            <a:xfrm flipH="1">
              <a:off x="610560" y="6515280"/>
              <a:ext cx="672840" cy="352080"/>
            </a:xfrm>
            <a:prstGeom prst="rtTriangl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404040"/>
                </a:solidFill>
                <a:latin typeface="Arial"/>
              </a:endParaRPr>
            </a:p>
          </p:txBody>
        </p:sp>
      </p:grpSp>
      <p:pic>
        <p:nvPicPr>
          <p:cNvPr id="313" name="Group 26" descr=""/>
          <p:cNvPicPr/>
          <p:nvPr/>
        </p:nvPicPr>
        <p:blipFill>
          <a:blip r:embed="rId3"/>
          <a:stretch/>
        </p:blipFill>
        <p:spPr>
          <a:xfrm>
            <a:off x="774720" y="6595920"/>
            <a:ext cx="8375760" cy="268560"/>
          </a:xfrm>
          <a:prstGeom prst="rect">
            <a:avLst/>
          </a:prstGeom>
          <a:ln w="0">
            <a:noFill/>
          </a:ln>
        </p:spPr>
      </p:pic>
      <p:pic>
        <p:nvPicPr>
          <p:cNvPr id="314" name="Group 29" descr=""/>
          <p:cNvPicPr/>
          <p:nvPr/>
        </p:nvPicPr>
        <p:blipFill>
          <a:blip r:embed="rId4"/>
          <a:stretch/>
        </p:blipFill>
        <p:spPr>
          <a:xfrm>
            <a:off x="-6480" y="0"/>
            <a:ext cx="8375760" cy="2682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6" descr=""/>
          <p:cNvPicPr/>
          <p:nvPr/>
        </p:nvPicPr>
        <p:blipFill>
          <a:blip r:embed="rId5"/>
          <a:stretch/>
        </p:blipFill>
        <p:spPr>
          <a:xfrm>
            <a:off x="7794720" y="6059520"/>
            <a:ext cx="1143000" cy="40644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a1"/>
                </a:solidFill>
                <a:latin typeface="Verdana"/>
              </a:rPr>
              <a:t>Click to edit the title text format</a:t>
            </a: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  <a:p>
            <a:pPr lvl="1" marL="625320" indent="-34272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  <a:p>
            <a:pPr lvl="2" marL="863640" indent="-28584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  <a:p>
            <a:pPr lvl="3" marL="1146240" indent="-28584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  <a:p>
            <a:pPr lvl="4" marL="1428840" indent="-285840">
              <a:spcBef>
                <a:spcPts val="20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  <a:p>
            <a:pPr lvl="5" marL="1428840" indent="-285840">
              <a:spcBef>
                <a:spcPts val="20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  <a:p>
            <a:pPr lvl="6" marL="1428840" indent="-285840">
              <a:spcBef>
                <a:spcPts val="20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6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719938-624D-4184-B4FE-FDDB4945ABBF}" type="datetime5"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Jul 29,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sldNum" idx="7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389839-BAC2-40CD-A5C5-DDDD2B219B1A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3"/>
    <p:sldLayoutId id="2147483741" r:id="rId14"/>
    <p:sldLayoutId id="2147483742" r:id="rId15"/>
    <p:sldLayoutId id="2147483743" r:id="rId16"/>
    <p:sldLayoutId id="2147483744" r:id="rId17"/>
    <p:sldLayoutId id="2147483745" r:id="rId18"/>
    <p:sldLayoutId id="2147483746" r:id="rId19"/>
    <p:sldLayoutId id="2147483747" r:id="rId20"/>
    <p:sldLayoutId id="2147483748" r:id="rId21"/>
    <p:sldLayoutId id="2147483749" r:id="rId22"/>
    <p:sldLayoutId id="2147483750" r:id="rId23"/>
    <p:sldLayoutId id="2147483751" r:id="rId2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1"/>
          <p:cNvGrpSpPr/>
          <p:nvPr/>
        </p:nvGrpSpPr>
        <p:grpSpPr>
          <a:xfrm>
            <a:off x="610920" y="6515280"/>
            <a:ext cx="8542440" cy="352080"/>
            <a:chOff x="610920" y="6515280"/>
            <a:chExt cx="8542440" cy="352080"/>
          </a:xfrm>
        </p:grpSpPr>
        <p:sp>
          <p:nvSpPr>
            <p:cNvPr id="357" name="Rectangle 24"/>
            <p:cNvSpPr/>
            <p:nvPr/>
          </p:nvSpPr>
          <p:spPr>
            <a:xfrm flipV="1">
              <a:off x="1272960" y="6515280"/>
              <a:ext cx="7880400" cy="352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404040"/>
                </a:solidFill>
                <a:latin typeface="Arial"/>
              </a:endParaRPr>
            </a:p>
          </p:txBody>
        </p:sp>
        <p:sp>
          <p:nvSpPr>
            <p:cNvPr id="358" name="Right Triangle 25"/>
            <p:cNvSpPr/>
            <p:nvPr/>
          </p:nvSpPr>
          <p:spPr>
            <a:xfrm flipH="1">
              <a:off x="610560" y="6515280"/>
              <a:ext cx="672840" cy="352080"/>
            </a:xfrm>
            <a:prstGeom prst="rtTriangl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404040"/>
                </a:solidFill>
                <a:latin typeface="Arial"/>
              </a:endParaRPr>
            </a:p>
          </p:txBody>
        </p:sp>
      </p:grpSp>
      <p:pic>
        <p:nvPicPr>
          <p:cNvPr id="359" name="Group 26" descr=""/>
          <p:cNvPicPr/>
          <p:nvPr/>
        </p:nvPicPr>
        <p:blipFill>
          <a:blip r:embed="rId3"/>
          <a:stretch/>
        </p:blipFill>
        <p:spPr>
          <a:xfrm>
            <a:off x="774720" y="6595920"/>
            <a:ext cx="8375760" cy="268560"/>
          </a:xfrm>
          <a:prstGeom prst="rect">
            <a:avLst/>
          </a:prstGeom>
          <a:ln w="0">
            <a:noFill/>
          </a:ln>
        </p:spPr>
      </p:pic>
      <p:pic>
        <p:nvPicPr>
          <p:cNvPr id="360" name="Group 29" descr=""/>
          <p:cNvPicPr/>
          <p:nvPr/>
        </p:nvPicPr>
        <p:blipFill>
          <a:blip r:embed="rId4"/>
          <a:stretch/>
        </p:blipFill>
        <p:spPr>
          <a:xfrm>
            <a:off x="-6480" y="0"/>
            <a:ext cx="8375760" cy="2682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6" descr=""/>
          <p:cNvPicPr/>
          <p:nvPr/>
        </p:nvPicPr>
        <p:blipFill>
          <a:blip r:embed="rId5"/>
          <a:stretch/>
        </p:blipFill>
        <p:spPr>
          <a:xfrm>
            <a:off x="7794720" y="6059520"/>
            <a:ext cx="1143000" cy="40644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98600" y="646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a1"/>
                </a:solidFill>
                <a:latin typeface="Verdana"/>
              </a:rPr>
              <a:t>Click to edit the title text format</a:t>
            </a:r>
            <a:endParaRPr b="0" lang="en-US" sz="35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  <a:p>
            <a:pPr lvl="1" marL="625320" indent="-34272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  <a:p>
            <a:pPr lvl="2" marL="863640" indent="-28584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  <a:p>
            <a:pPr lvl="3" marL="1146240" indent="-28584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  <a:p>
            <a:pPr lvl="4" marL="1428840" indent="-285840">
              <a:spcBef>
                <a:spcPts val="20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  <a:p>
            <a:pPr lvl="5" marL="1428840" indent="-285840">
              <a:spcBef>
                <a:spcPts val="20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  <a:p>
            <a:pPr lvl="6" marL="1428840" indent="-285840">
              <a:spcBef>
                <a:spcPts val="20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1355D7-273C-4401-ABB3-11A479408B3D}" type="datetime"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9"/>
          </p:nvPr>
        </p:nvSpPr>
        <p:spPr>
          <a:xfrm>
            <a:off x="1300320" y="6298920"/>
            <a:ext cx="29923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0858FD-D5D7-4F25-A7FB-A543645960BB}" type="slidenum"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3"/>
    <p:sldLayoutId id="2147483754" r:id="rId14"/>
    <p:sldLayoutId id="2147483755" r:id="rId15"/>
    <p:sldLayoutId id="2147483756" r:id="rId16"/>
    <p:sldLayoutId id="2147483757" r:id="rId17"/>
    <p:sldLayoutId id="2147483758" r:id="rId18"/>
    <p:sldLayoutId id="2147483759" r:id="rId19"/>
    <p:sldLayoutId id="2147483760" r:id="rId20"/>
    <p:sldLayoutId id="2147483761" r:id="rId21"/>
    <p:sldLayoutId id="2147483762" r:id="rId22"/>
    <p:sldLayoutId id="2147483763" r:id="rId23"/>
    <p:sldLayoutId id="2147483764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20400" y="1136520"/>
            <a:ext cx="8823240" cy="112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EEE </a:t>
            </a:r>
            <a:r>
              <a:rPr b="0" i="1" lang="en-US" sz="3600" spc="-1" strike="noStrike">
                <a:solidFill>
                  <a:srgbClr val="ffffff"/>
                </a:solidFill>
                <a:latin typeface="Verdana"/>
              </a:rPr>
              <a:t>Xplore</a:t>
            </a:r>
            <a:r>
              <a:rPr b="0" i="1" lang="en-US" sz="3600" spc="-1" strike="noStrike" baseline="40000">
                <a:solidFill>
                  <a:srgbClr val="ffffff"/>
                </a:solidFill>
                <a:latin typeface="Verdana"/>
              </a:rPr>
              <a:t>®</a:t>
            </a:r>
            <a:r>
              <a:rPr b="0" i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gital Library</a:t>
            </a:r>
            <a:br>
              <a:rPr sz="3600"/>
            </a:b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--</a:t>
            </a:r>
            <a:r>
              <a:rPr b="0" i="1" lang="en-US" sz="2700" spc="-1" strike="noStrike">
                <a:solidFill>
                  <a:srgbClr val="ffffff"/>
                </a:solidFill>
                <a:latin typeface="Verdana"/>
              </a:rPr>
              <a:t>Evolving to Meet YOUR Changing Needs--</a:t>
            </a:r>
            <a:endParaRPr b="0" lang="en-US" sz="27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011240" y="3989160"/>
            <a:ext cx="6400800" cy="206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d55d4"/>
                </a:solidFill>
                <a:latin typeface="Verdana"/>
              </a:rPr>
              <a:t>Eszter Lukács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d55d4"/>
                </a:solidFill>
                <a:latin typeface="Verdana"/>
              </a:rPr>
              <a:t>IEEE Client Services Manager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d55d4"/>
                </a:solidFill>
                <a:latin typeface="Verdana"/>
              </a:rPr>
              <a:t>e.lukacs@ieee.org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412" name="Picture 5" descr="Blank spacer image"/>
          <p:cNvPicPr/>
          <p:nvPr/>
        </p:nvPicPr>
        <p:blipFill>
          <a:blip r:embed="rId1"/>
          <a:stretch/>
        </p:blipFill>
        <p:spPr>
          <a:xfrm>
            <a:off x="3867120" y="310500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7" descr="Blank spacer image"/>
          <p:cNvPicPr/>
          <p:nvPr/>
        </p:nvPicPr>
        <p:blipFill>
          <a:blip r:embed="rId2"/>
          <a:stretch/>
        </p:blipFill>
        <p:spPr>
          <a:xfrm>
            <a:off x="3867120" y="3105000"/>
            <a:ext cx="1409760" cy="64800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3"/>
          <p:cNvSpPr/>
          <p:nvPr/>
        </p:nvSpPr>
        <p:spPr>
          <a:xfrm>
            <a:off x="1011240" y="3760920"/>
            <a:ext cx="6400800" cy="11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2"/>
          <p:cNvSpPr/>
          <p:nvPr/>
        </p:nvSpPr>
        <p:spPr>
          <a:xfrm>
            <a:off x="272880" y="304920"/>
            <a:ext cx="88711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6a1"/>
                </a:solidFill>
                <a:latin typeface="Verdana"/>
                <a:ea typeface="Arial"/>
              </a:rPr>
              <a:t>IEEE </a:t>
            </a:r>
            <a:r>
              <a:rPr b="1" i="1" lang="en-US" sz="2800" spc="-1" strike="noStrike">
                <a:solidFill>
                  <a:srgbClr val="0066a1"/>
                </a:solidFill>
                <a:latin typeface="Verdana"/>
                <a:ea typeface="Arial"/>
              </a:rPr>
              <a:t>Xplore</a:t>
            </a:r>
            <a:r>
              <a:rPr b="1" lang="en-US" sz="2800" spc="-1" strike="noStrike">
                <a:solidFill>
                  <a:srgbClr val="0066a1"/>
                </a:solidFill>
                <a:latin typeface="Verdana"/>
                <a:ea typeface="Arial"/>
              </a:rPr>
              <a:t> Home page – IP access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IEEE Trial is from 10/17/2013 - 11/19/2013                           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ieeexplore</a:t>
            </a: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ieee</a:t>
            </a: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.org</a:t>
            </a:r>
            <a:endParaRPr b="0" lang="en-US" sz="14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472" name="Picture 5" descr=""/>
          <p:cNvPicPr/>
          <p:nvPr/>
        </p:nvPicPr>
        <p:blipFill>
          <a:blip r:embed="rId1"/>
          <a:stretch/>
        </p:blipFill>
        <p:spPr>
          <a:xfrm>
            <a:off x="641520" y="1587600"/>
            <a:ext cx="687852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98080"/>
            <a:ext cx="8229600" cy="11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a1"/>
                </a:solidFill>
                <a:latin typeface="Verdana"/>
              </a:rPr>
              <a:t>What can I access in full-text ?</a:t>
            </a:r>
            <a:endParaRPr b="0" lang="en-US" sz="2800" spc="-1" strike="noStrike">
              <a:solidFill>
                <a:srgbClr val="0066a1"/>
              </a:solidFill>
              <a:latin typeface="Verdana"/>
            </a:endParaRPr>
          </a:p>
        </p:txBody>
      </p:sp>
      <p:pic>
        <p:nvPicPr>
          <p:cNvPr id="474" name="Picture 2" descr=""/>
          <p:cNvPicPr/>
          <p:nvPr/>
        </p:nvPicPr>
        <p:blipFill>
          <a:blip r:embed="rId1"/>
          <a:stretch/>
        </p:blipFill>
        <p:spPr>
          <a:xfrm>
            <a:off x="384120" y="1008000"/>
            <a:ext cx="7272360" cy="48672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3" descr=""/>
          <p:cNvPicPr/>
          <p:nvPr/>
        </p:nvPicPr>
        <p:blipFill>
          <a:blip r:embed="rId2"/>
          <a:stretch/>
        </p:blipFill>
        <p:spPr>
          <a:xfrm>
            <a:off x="3094200" y="2511360"/>
            <a:ext cx="591948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9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a1"/>
                </a:solidFill>
                <a:latin typeface="Verdana"/>
              </a:rPr>
              <a:t>3 methods to keyword search</a:t>
            </a:r>
            <a:endParaRPr b="0" lang="en-US" sz="28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600200"/>
            <a:ext cx="822960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Verdana"/>
              </a:rPr>
              <a:t>Search bar on the home page </a:t>
            </a: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– searches metadata only (Citation, abstract, index terms). Automatic AND unless you use “”.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Verdana"/>
              </a:rPr>
              <a:t>ADVANCED SEARCH </a:t>
            </a: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– searches metadata or full text. Boolean operators of AND, OR, NOT.  A maximum of 11 keyword + content filters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Verdana"/>
              </a:rPr>
              <a:t>COMMAND SEARCH </a:t>
            </a: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-  searches metadata or full text. Boolean operators of AND, OR, NOT, NEAR, ONEAR. A maximum of 15 terms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9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a1"/>
                </a:solidFill>
                <a:latin typeface="Verdana"/>
              </a:rPr>
              <a:t>Search on homepage</a:t>
            </a:r>
            <a:endParaRPr b="0" lang="en-US" sz="2800" spc="-1" strike="noStrike">
              <a:solidFill>
                <a:srgbClr val="0066a1"/>
              </a:solidFill>
              <a:latin typeface="Verdana"/>
            </a:endParaRPr>
          </a:p>
        </p:txBody>
      </p:sp>
      <p:pic>
        <p:nvPicPr>
          <p:cNvPr id="479" name="Picture 2" descr=""/>
          <p:cNvPicPr/>
          <p:nvPr/>
        </p:nvPicPr>
        <p:blipFill>
          <a:blip r:embed="rId1"/>
          <a:stretch/>
        </p:blipFill>
        <p:spPr>
          <a:xfrm>
            <a:off x="109440" y="1450800"/>
            <a:ext cx="7804080" cy="5013360"/>
          </a:xfrm>
          <a:prstGeom prst="rect">
            <a:avLst/>
          </a:prstGeom>
          <a:ln w="0">
            <a:noFill/>
          </a:ln>
        </p:spPr>
      </p:pic>
      <p:sp>
        <p:nvSpPr>
          <p:cNvPr id="480" name="TextBox 3"/>
          <p:cNvSpPr/>
          <p:nvPr/>
        </p:nvSpPr>
        <p:spPr>
          <a:xfrm>
            <a:off x="5632560" y="358920"/>
            <a:ext cx="3417840" cy="1006560"/>
          </a:xfrm>
          <a:prstGeom prst="rect">
            <a:avLst/>
          </a:prstGeom>
          <a:solidFill>
            <a:srgbClr val="f4c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Arial"/>
              </a:rPr>
              <a:t>Metadata only</a:t>
            </a:r>
            <a:endParaRPr b="0" lang="en-US" sz="1200" spc="-1" strike="noStrike">
              <a:solidFill>
                <a:srgbClr val="40404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Arial"/>
              </a:rPr>
              <a:t>Type ahead assistance</a:t>
            </a:r>
            <a:endParaRPr b="0" lang="en-US" sz="1200" spc="-1" strike="noStrike">
              <a:solidFill>
                <a:srgbClr val="40404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Arial"/>
              </a:rPr>
              <a:t>Automatic stemming</a:t>
            </a:r>
            <a:endParaRPr b="0" lang="en-US" sz="1200" spc="-1" strike="noStrike">
              <a:solidFill>
                <a:srgbClr val="40404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Arial"/>
              </a:rPr>
              <a:t>Automatic AND </a:t>
            </a:r>
            <a:endParaRPr b="0" lang="en-US" sz="1200" spc="-1" strike="noStrike">
              <a:solidFill>
                <a:srgbClr val="40404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Arial"/>
              </a:rPr>
              <a:t>“” </a:t>
            </a:r>
            <a:r>
              <a:rPr b="1" lang="en-US" sz="1200" spc="-1" strike="noStrike">
                <a:solidFill>
                  <a:srgbClr val="404040"/>
                </a:solidFill>
                <a:latin typeface="Arial"/>
              </a:rPr>
              <a:t>for exact phrase or acronym</a:t>
            </a:r>
            <a:endParaRPr b="0" lang="en-US" sz="12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8224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a1"/>
                </a:solidFill>
                <a:latin typeface="Verdana"/>
              </a:rPr>
              <a:t>Search results + refinements</a:t>
            </a:r>
            <a:endParaRPr b="0" lang="en-US" sz="2800" spc="-1" strike="noStrike">
              <a:solidFill>
                <a:srgbClr val="0066a1"/>
              </a:solidFill>
              <a:latin typeface="Verdana"/>
            </a:endParaRPr>
          </a:p>
        </p:txBody>
      </p:sp>
      <p:pic>
        <p:nvPicPr>
          <p:cNvPr id="482" name="Picture 2" descr=""/>
          <p:cNvPicPr/>
          <p:nvPr/>
        </p:nvPicPr>
        <p:blipFill>
          <a:blip r:embed="rId1"/>
          <a:stretch/>
        </p:blipFill>
        <p:spPr>
          <a:xfrm>
            <a:off x="223920" y="887400"/>
            <a:ext cx="8045280" cy="539100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3" descr=""/>
          <p:cNvPicPr/>
          <p:nvPr/>
        </p:nvPicPr>
        <p:blipFill>
          <a:blip r:embed="rId2"/>
          <a:stretch/>
        </p:blipFill>
        <p:spPr>
          <a:xfrm>
            <a:off x="4788000" y="1836720"/>
            <a:ext cx="1531800" cy="12034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4" descr=""/>
          <p:cNvPicPr/>
          <p:nvPr/>
        </p:nvPicPr>
        <p:blipFill>
          <a:blip r:embed="rId3"/>
          <a:stretch/>
        </p:blipFill>
        <p:spPr>
          <a:xfrm>
            <a:off x="1724040" y="3040200"/>
            <a:ext cx="5249880" cy="38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2000" fill="hold"/>
                                        <p:tgtEl>
                                          <p:spTgt spid="4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98080"/>
            <a:ext cx="8229600" cy="5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a1"/>
                </a:solidFill>
                <a:latin typeface="Verdana"/>
              </a:rPr>
              <a:t>ADVANCED search</a:t>
            </a:r>
            <a:endParaRPr b="0" lang="en-US" sz="2800" spc="-1" strike="noStrike">
              <a:solidFill>
                <a:srgbClr val="0066a1"/>
              </a:solidFill>
              <a:latin typeface="Verdana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272880" y="949320"/>
            <a:ext cx="3772080" cy="5497560"/>
          </a:xfrm>
          <a:prstGeom prst="rect">
            <a:avLst/>
          </a:prstGeom>
          <a:ln w="0">
            <a:noFill/>
          </a:ln>
        </p:spPr>
      </p:pic>
      <p:sp>
        <p:nvSpPr>
          <p:cNvPr id="487" name="TextBox 3"/>
          <p:cNvSpPr/>
          <p:nvPr/>
        </p:nvSpPr>
        <p:spPr>
          <a:xfrm>
            <a:off x="5537160" y="838080"/>
            <a:ext cx="3149640" cy="1371600"/>
          </a:xfrm>
          <a:prstGeom prst="rect">
            <a:avLst/>
          </a:prstGeom>
          <a:solidFill>
            <a:srgbClr val="f4c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Arial"/>
              </a:rPr>
              <a:t>Metadata and Full Text search</a:t>
            </a:r>
            <a:endParaRPr b="0" lang="en-US" sz="1200" spc="-1" strike="noStrike">
              <a:solidFill>
                <a:srgbClr val="40404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Arial"/>
              </a:rPr>
              <a:t>Type ahead assistance</a:t>
            </a:r>
            <a:endParaRPr b="0" lang="en-US" sz="1200" spc="-1" strike="noStrike">
              <a:solidFill>
                <a:srgbClr val="40404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Arial"/>
              </a:rPr>
              <a:t>Automatic stemming</a:t>
            </a:r>
            <a:endParaRPr b="0" lang="en-US" sz="1200" spc="-1" strike="noStrike">
              <a:solidFill>
                <a:srgbClr val="40404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Arial"/>
              </a:rPr>
              <a:t>AND, OR, NOT</a:t>
            </a:r>
            <a:endParaRPr b="0" lang="en-US" sz="1200" spc="-1" strike="noStrike">
              <a:solidFill>
                <a:srgbClr val="40404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Arial"/>
              </a:rPr>
              <a:t>25 fielded limiters</a:t>
            </a:r>
            <a:endParaRPr b="0" lang="en-US" sz="1200" spc="-1" strike="noStrike">
              <a:solidFill>
                <a:srgbClr val="40404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Arial"/>
              </a:rPr>
              <a:t>“” </a:t>
            </a:r>
            <a:r>
              <a:rPr b="1" lang="en-US" sz="1200" spc="-1" strike="noStrike">
                <a:solidFill>
                  <a:srgbClr val="404040"/>
                </a:solidFill>
                <a:latin typeface="Arial"/>
              </a:rPr>
              <a:t>for exact phrase or acronym</a:t>
            </a:r>
            <a:endParaRPr b="0" lang="en-US" sz="1200" spc="-1" strike="noStrike">
              <a:solidFill>
                <a:srgbClr val="40404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Arial"/>
              </a:rPr>
              <a:t>Content Filters</a:t>
            </a:r>
            <a:endParaRPr b="0" lang="en-US" sz="12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488" name="Picture 3" descr=""/>
          <p:cNvPicPr/>
          <p:nvPr/>
        </p:nvPicPr>
        <p:blipFill>
          <a:blip r:embed="rId2"/>
          <a:stretch/>
        </p:blipFill>
        <p:spPr>
          <a:xfrm>
            <a:off x="5945040" y="2832120"/>
            <a:ext cx="19288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9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a1"/>
                </a:solidFill>
                <a:latin typeface="Verdana"/>
              </a:rPr>
              <a:t>Competitor search + Save Search alert</a:t>
            </a:r>
            <a:endParaRPr b="0" lang="en-US" sz="2800" spc="-1" strike="noStrike">
              <a:solidFill>
                <a:srgbClr val="0066a1"/>
              </a:solidFill>
              <a:latin typeface="Verdana"/>
            </a:endParaRPr>
          </a:p>
        </p:txBody>
      </p:sp>
      <p:pic>
        <p:nvPicPr>
          <p:cNvPr id="490" name="Picture 2" descr=""/>
          <p:cNvPicPr/>
          <p:nvPr/>
        </p:nvPicPr>
        <p:blipFill>
          <a:blip r:embed="rId1"/>
          <a:stretch/>
        </p:blipFill>
        <p:spPr>
          <a:xfrm>
            <a:off x="255600" y="1050840"/>
            <a:ext cx="8001000" cy="463572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3" descr=""/>
          <p:cNvPicPr/>
          <p:nvPr/>
        </p:nvPicPr>
        <p:blipFill>
          <a:blip r:embed="rId2"/>
          <a:stretch/>
        </p:blipFill>
        <p:spPr>
          <a:xfrm>
            <a:off x="3130560" y="1733400"/>
            <a:ext cx="5189400" cy="42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9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a1"/>
                </a:solidFill>
                <a:latin typeface="Verdana"/>
              </a:rPr>
              <a:t>COMMAND search</a:t>
            </a:r>
            <a:endParaRPr b="0" lang="en-US" sz="2800" spc="-1" strike="noStrike">
              <a:solidFill>
                <a:srgbClr val="0066a1"/>
              </a:solidFill>
              <a:latin typeface="Verdana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0" y="1077840"/>
            <a:ext cx="7950240" cy="4394160"/>
          </a:xfrm>
          <a:prstGeom prst="rect">
            <a:avLst/>
          </a:prstGeom>
          <a:ln w="0">
            <a:noFill/>
          </a:ln>
        </p:spPr>
      </p:pic>
      <p:sp>
        <p:nvSpPr>
          <p:cNvPr id="494" name="TextBox 3"/>
          <p:cNvSpPr/>
          <p:nvPr/>
        </p:nvSpPr>
        <p:spPr>
          <a:xfrm>
            <a:off x="5213520" y="60480"/>
            <a:ext cx="3862080" cy="1189080"/>
          </a:xfrm>
          <a:prstGeom prst="rect">
            <a:avLst/>
          </a:prstGeom>
          <a:solidFill>
            <a:srgbClr val="eea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Arial"/>
              </a:rPr>
              <a:t>Metadata and Full Text search</a:t>
            </a:r>
            <a:endParaRPr b="0" lang="en-US" sz="1200" spc="-1" strike="noStrike">
              <a:solidFill>
                <a:srgbClr val="40404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Arial"/>
              </a:rPr>
              <a:t>Automatic stemming</a:t>
            </a:r>
            <a:endParaRPr b="0" lang="en-US" sz="1200" spc="-1" strike="noStrike">
              <a:solidFill>
                <a:srgbClr val="40404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Arial"/>
              </a:rPr>
              <a:t>AND, OR, NOT, NEAR, ONEAR</a:t>
            </a:r>
            <a:endParaRPr b="0" lang="en-US" sz="1200" spc="-1" strike="noStrike">
              <a:solidFill>
                <a:srgbClr val="40404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Arial"/>
              </a:rPr>
              <a:t>25 fielded limiters</a:t>
            </a:r>
            <a:endParaRPr b="0" lang="en-US" sz="1200" spc="-1" strike="noStrike">
              <a:solidFill>
                <a:srgbClr val="40404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Arial"/>
              </a:rPr>
              <a:t>“” </a:t>
            </a:r>
            <a:r>
              <a:rPr b="1" lang="en-US" sz="1200" spc="-1" strike="noStrike">
                <a:solidFill>
                  <a:srgbClr val="404040"/>
                </a:solidFill>
                <a:latin typeface="Arial"/>
              </a:rPr>
              <a:t>for exact phrase or acronym</a:t>
            </a:r>
            <a:endParaRPr b="0" lang="en-US" sz="1200" spc="-1" strike="noStrike">
              <a:solidFill>
                <a:srgbClr val="40404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Arial"/>
              </a:rPr>
              <a:t>15 keyword limit</a:t>
            </a:r>
            <a:endParaRPr b="0" lang="en-US" sz="1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95" name="TextBox 4"/>
          <p:cNvSpPr/>
          <p:nvPr/>
        </p:nvSpPr>
        <p:spPr>
          <a:xfrm>
            <a:off x="6041880" y="3887640"/>
            <a:ext cx="3033720" cy="2012040"/>
          </a:xfrm>
          <a:prstGeom prst="rect">
            <a:avLst/>
          </a:prstGeom>
          <a:solidFill>
            <a:srgbClr val="ffcc99"/>
          </a:solidFill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 u="sng">
                <a:solidFill>
                  <a:srgbClr val="404040"/>
                </a:solidFill>
                <a:uFillTx/>
                <a:latin typeface="Arial"/>
              </a:rPr>
              <a:t>Meta data only</a:t>
            </a:r>
            <a:endParaRPr b="0" lang="en-US" sz="1400" spc="-1" strike="noStrike">
              <a:solidFill>
                <a:srgbClr val="40404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Arial"/>
              </a:rPr>
              <a:t>train AND signalling          23,710</a:t>
            </a:r>
            <a:endParaRPr b="0" lang="en-US" sz="1400" spc="-1" strike="noStrike">
              <a:solidFill>
                <a:srgbClr val="40404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Arial"/>
              </a:rPr>
              <a:t>train NEAR/7 signalling   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2,390</a:t>
            </a:r>
            <a:endParaRPr b="0" lang="en-US" sz="1400" spc="-1" strike="noStrike">
              <a:solidFill>
                <a:srgbClr val="40404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Arial"/>
              </a:rPr>
              <a:t>Full text &amp; metadata </a:t>
            </a:r>
            <a:endParaRPr b="0" lang="en-US" sz="1400" spc="-1" strike="noStrike">
              <a:solidFill>
                <a:srgbClr val="40404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Arial"/>
              </a:rPr>
              <a:t>train AND signalling       251,055</a:t>
            </a:r>
            <a:endParaRPr b="0" lang="en-US" sz="1400" spc="-1" strike="noStrike">
              <a:solidFill>
                <a:srgbClr val="40404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Arial"/>
              </a:rPr>
              <a:t>train NEAR/7 signalling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9,114</a:t>
            </a:r>
            <a:endParaRPr b="0" lang="en-US" sz="1400" spc="-1" strike="noStrike">
              <a:solidFill>
                <a:srgbClr val="40404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40404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90160"/>
            <a:ext cx="822960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a1"/>
                </a:solidFill>
                <a:latin typeface="Verdana"/>
              </a:rPr>
              <a:t>Abstract Plus</a:t>
            </a:r>
            <a:endParaRPr b="0" lang="en-US" sz="2800" spc="-1" strike="noStrike">
              <a:solidFill>
                <a:srgbClr val="0066a1"/>
              </a:solidFill>
              <a:latin typeface="Verdana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250920" y="928800"/>
            <a:ext cx="8610480" cy="506556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3" descr=""/>
          <p:cNvPicPr/>
          <p:nvPr/>
        </p:nvPicPr>
        <p:blipFill>
          <a:blip r:embed="rId2"/>
          <a:stretch/>
        </p:blipFill>
        <p:spPr>
          <a:xfrm>
            <a:off x="1469880" y="2836800"/>
            <a:ext cx="4737240" cy="36464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" descr=""/>
          <p:cNvPicPr/>
          <p:nvPr/>
        </p:nvPicPr>
        <p:blipFill>
          <a:blip r:embed="rId3"/>
          <a:stretch/>
        </p:blipFill>
        <p:spPr>
          <a:xfrm>
            <a:off x="3641760" y="2836800"/>
            <a:ext cx="316368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39760"/>
            <a:ext cx="8229600" cy="11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a1"/>
                </a:solidFill>
                <a:latin typeface="Verdana"/>
              </a:rPr>
              <a:t>BROWSE content </a:t>
            </a:r>
            <a:endParaRPr b="0" lang="en-US" sz="2800" spc="-1" strike="noStrike">
              <a:solidFill>
                <a:srgbClr val="0066a1"/>
              </a:solidFill>
              <a:latin typeface="Verdana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77760" y="811080"/>
            <a:ext cx="8115480" cy="52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7168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a1"/>
                </a:solidFill>
                <a:latin typeface="Verdana"/>
              </a:rPr>
              <a:t>About the IEEE</a:t>
            </a:r>
            <a:endParaRPr b="0" lang="en-US" sz="28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0" y="990720"/>
            <a:ext cx="86868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normAutofit fontScale="58000"/>
          </a:bodyPr>
          <a:p>
            <a:pPr marL="198720" indent="-1987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198720" indent="-1987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World’s largest technical membership association with more than 425,000 members  in over 160 countries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198720" indent="-1987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Not for profit society 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198720" indent="-1987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Core areas of activity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430920" indent="-165600">
              <a:lnSpc>
                <a:spcPct val="11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Membership 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430920" indent="-165600">
              <a:lnSpc>
                <a:spcPct val="11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Publishing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430920" indent="-165600">
              <a:lnSpc>
                <a:spcPct val="11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Conferences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430920" indent="-165600">
              <a:lnSpc>
                <a:spcPct val="11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tandards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430920" indent="-165600">
              <a:lnSpc>
                <a:spcPct val="11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ducation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198720" indent="-19872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417" name="Picture 8" descr=""/>
          <p:cNvPicPr/>
          <p:nvPr/>
        </p:nvPicPr>
        <p:blipFill>
          <a:blip r:embed="rId5"/>
          <a:stretch/>
        </p:blipFill>
        <p:spPr>
          <a:xfrm>
            <a:off x="3616200" y="2274840"/>
            <a:ext cx="4243680" cy="3189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a1"/>
                </a:solidFill>
                <a:latin typeface="Verdana"/>
              </a:rPr>
              <a:t>Quick self – paced tutorials </a:t>
            </a:r>
            <a:endParaRPr b="0" lang="en-US" sz="2800" spc="-1" strike="noStrike">
              <a:solidFill>
                <a:srgbClr val="0066a1"/>
              </a:solidFill>
              <a:latin typeface="Verdana"/>
            </a:endParaRPr>
          </a:p>
        </p:txBody>
      </p:sp>
      <p:pic>
        <p:nvPicPr>
          <p:cNvPr id="503" name="Picture 7" descr=""/>
          <p:cNvPicPr/>
          <p:nvPr/>
        </p:nvPicPr>
        <p:blipFill>
          <a:blip r:embed="rId1"/>
          <a:stretch/>
        </p:blipFill>
        <p:spPr>
          <a:xfrm>
            <a:off x="198360" y="965160"/>
            <a:ext cx="7723440" cy="501480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8" descr=""/>
          <p:cNvPicPr/>
          <p:nvPr/>
        </p:nvPicPr>
        <p:blipFill>
          <a:blip r:embed="rId2"/>
          <a:stretch/>
        </p:blipFill>
        <p:spPr>
          <a:xfrm>
            <a:off x="2119320" y="1295280"/>
            <a:ext cx="6646680" cy="527688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9" descr=""/>
          <p:cNvPicPr/>
          <p:nvPr/>
        </p:nvPicPr>
        <p:blipFill>
          <a:blip r:embed="rId3"/>
          <a:stretch/>
        </p:blipFill>
        <p:spPr>
          <a:xfrm>
            <a:off x="3865680" y="185760"/>
            <a:ext cx="51894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76320" y="1793520"/>
            <a:ext cx="608472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a1"/>
                </a:solidFill>
                <a:latin typeface="Verdana"/>
              </a:rPr>
              <a:t>Eszter Lukács (Europe)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a1"/>
                </a:solidFill>
                <a:latin typeface="Verdana"/>
              </a:rPr>
              <a:t>IEEE Client Services Manager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a1"/>
                </a:solidFill>
                <a:latin typeface="Verdana"/>
              </a:rPr>
              <a:t>Email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: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  e.lukacs@ieee.org 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507" name="Grafik 3" descr="Eszter.jpg"/>
          <p:cNvPicPr/>
          <p:nvPr/>
        </p:nvPicPr>
        <p:blipFill>
          <a:blip r:embed="rId1"/>
          <a:stretch/>
        </p:blipFill>
        <p:spPr>
          <a:xfrm>
            <a:off x="7348680" y="2055960"/>
            <a:ext cx="1511280" cy="213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4"/>
          <p:cNvSpPr/>
          <p:nvPr/>
        </p:nvSpPr>
        <p:spPr>
          <a:xfrm>
            <a:off x="2545920" y="1884240"/>
            <a:ext cx="3650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ff8000"/>
                </a:solidFill>
                <a:latin typeface="Arial"/>
              </a:rPr>
              <a:t>RENEWABLE ENERGY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55600"/>
            <a:ext cx="8178840" cy="6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a1"/>
                </a:solidFill>
                <a:latin typeface="Verdana"/>
              </a:rPr>
              <a:t>IEEE covers all areas of technology</a:t>
            </a:r>
            <a:br>
              <a:rPr sz="1000"/>
            </a:br>
            <a:br>
              <a:rPr sz="1800"/>
            </a:br>
            <a:endParaRPr b="0" lang="en-US" sz="28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420" name="Straight Connector 31"/>
          <p:cNvSpPr/>
          <p:nvPr/>
        </p:nvSpPr>
        <p:spPr>
          <a:xfrm>
            <a:off x="930240" y="1201680"/>
            <a:ext cx="220968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21" name="Rectangle 7"/>
          <p:cNvSpPr/>
          <p:nvPr/>
        </p:nvSpPr>
        <p:spPr>
          <a:xfrm>
            <a:off x="4098960" y="2362320"/>
            <a:ext cx="307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66a1"/>
                </a:solidFill>
                <a:latin typeface="Arial"/>
              </a:rPr>
              <a:t>SMART GRID</a:t>
            </a:r>
            <a:endParaRPr b="0" lang="en-US" sz="3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22" name="Rectangle 8"/>
          <p:cNvSpPr/>
          <p:nvPr/>
        </p:nvSpPr>
        <p:spPr>
          <a:xfrm>
            <a:off x="2965680" y="3403440"/>
            <a:ext cx="339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2eb2ff"/>
                </a:solidFill>
                <a:latin typeface="Arial"/>
              </a:rPr>
              <a:t>AEROSPACE</a:t>
            </a:r>
            <a:endParaRPr b="0" lang="en-US" sz="4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23" name="Rectangle 9"/>
          <p:cNvSpPr/>
          <p:nvPr/>
        </p:nvSpPr>
        <p:spPr>
          <a:xfrm>
            <a:off x="418320" y="364320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8000"/>
                </a:solidFill>
                <a:latin typeface="Arial"/>
              </a:rPr>
              <a:t>COMMUNICATIONS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24" name="Rectangle 10"/>
          <p:cNvSpPr/>
          <p:nvPr/>
        </p:nvSpPr>
        <p:spPr>
          <a:xfrm>
            <a:off x="502560" y="1847880"/>
            <a:ext cx="1837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2eb2ff"/>
                </a:solidFill>
                <a:latin typeface="Arial"/>
              </a:rPr>
              <a:t>OPTICS</a:t>
            </a:r>
            <a:endParaRPr b="0" lang="en-US" sz="35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25" name="Rectangle 11"/>
          <p:cNvSpPr/>
          <p:nvPr/>
        </p:nvSpPr>
        <p:spPr>
          <a:xfrm>
            <a:off x="3569760" y="3027240"/>
            <a:ext cx="38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71953d"/>
                </a:solidFill>
                <a:latin typeface="Arial"/>
              </a:rPr>
              <a:t>INFORMATION TECHNOLOGY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26" name="Rectangle 12"/>
          <p:cNvSpPr/>
          <p:nvPr/>
        </p:nvSpPr>
        <p:spPr>
          <a:xfrm>
            <a:off x="1407600" y="2882880"/>
            <a:ext cx="2133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0066a1"/>
                </a:solidFill>
                <a:latin typeface="Arial"/>
              </a:rPr>
              <a:t>IMAGING</a:t>
            </a:r>
            <a:endParaRPr b="0" lang="en-US" sz="35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27" name="Rectangle 13"/>
          <p:cNvSpPr/>
          <p:nvPr/>
        </p:nvSpPr>
        <p:spPr>
          <a:xfrm>
            <a:off x="974520" y="2465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8000"/>
                </a:solidFill>
                <a:latin typeface="Arial"/>
              </a:rPr>
              <a:t>SEMICONDUCTORS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28" name="Rectangle 14"/>
          <p:cNvSpPr/>
          <p:nvPr/>
        </p:nvSpPr>
        <p:spPr>
          <a:xfrm>
            <a:off x="6399720" y="3516480"/>
            <a:ext cx="210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1953d"/>
                </a:solidFill>
                <a:latin typeface="Arial"/>
              </a:rPr>
              <a:t>CIRCUITS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29" name="Rectangle 15"/>
          <p:cNvSpPr/>
          <p:nvPr/>
        </p:nvSpPr>
        <p:spPr>
          <a:xfrm>
            <a:off x="874440" y="4179960"/>
            <a:ext cx="3974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71953d"/>
                </a:solidFill>
                <a:latin typeface="Arial"/>
              </a:rPr>
              <a:t>BIOMEDICAL ENGINEERING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30" name="Rectangle 16"/>
          <p:cNvSpPr/>
          <p:nvPr/>
        </p:nvSpPr>
        <p:spPr>
          <a:xfrm>
            <a:off x="601920" y="4705200"/>
            <a:ext cx="4688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66a1"/>
                </a:solidFill>
                <a:latin typeface="Arial"/>
              </a:rPr>
              <a:t>LTE WIRELESS BROADBAND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31" name="Rectangle 17"/>
          <p:cNvSpPr/>
          <p:nvPr/>
        </p:nvSpPr>
        <p:spPr>
          <a:xfrm>
            <a:off x="4847760" y="4121280"/>
            <a:ext cx="30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8000"/>
                </a:solidFill>
                <a:latin typeface="Arial"/>
              </a:rPr>
              <a:t>ELECTRONICS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32" name="Rectangle 18"/>
          <p:cNvSpPr/>
          <p:nvPr/>
        </p:nvSpPr>
        <p:spPr>
          <a:xfrm>
            <a:off x="5436360" y="4768920"/>
            <a:ext cx="27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71953d"/>
                </a:solidFill>
                <a:latin typeface="Arial"/>
              </a:rPr>
              <a:t>NANOTECHNOLOGY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33" name="Rectangle 20"/>
          <p:cNvSpPr/>
          <p:nvPr/>
        </p:nvSpPr>
        <p:spPr>
          <a:xfrm>
            <a:off x="127080" y="976320"/>
            <a:ext cx="872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69be28"/>
                </a:solidFill>
                <a:latin typeface="Verdana"/>
              </a:rPr>
              <a:t>More than just electrical engineering &amp; computer science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34" name="Rectangle 19"/>
          <p:cNvSpPr/>
          <p:nvPr/>
        </p:nvSpPr>
        <p:spPr>
          <a:xfrm>
            <a:off x="2708640" y="5151600"/>
            <a:ext cx="397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2eb2ff"/>
                </a:solidFill>
                <a:latin typeface="Arial"/>
              </a:rPr>
              <a:t>CLOUD COMPUTING</a:t>
            </a:r>
            <a:endParaRPr b="0" lang="en-US" sz="3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35" name="Rectangle 21"/>
          <p:cNvSpPr/>
          <p:nvPr/>
        </p:nvSpPr>
        <p:spPr>
          <a:xfrm>
            <a:off x="5418720" y="5618160"/>
            <a:ext cx="252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8000"/>
                </a:solidFill>
                <a:latin typeface="Arial"/>
              </a:rPr>
              <a:t>MEDICAL DEVICES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36" name="Rectangle 22"/>
          <p:cNvSpPr/>
          <p:nvPr/>
        </p:nvSpPr>
        <p:spPr>
          <a:xfrm>
            <a:off x="783360" y="521964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8000"/>
                </a:solidFill>
                <a:latin typeface="Arial"/>
              </a:rPr>
              <a:t>OIL &amp; GAS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37" name="Rectangle 23"/>
          <p:cNvSpPr/>
          <p:nvPr/>
        </p:nvSpPr>
        <p:spPr>
          <a:xfrm>
            <a:off x="2855160" y="5705640"/>
            <a:ext cx="24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4d79"/>
                </a:solidFill>
                <a:latin typeface="Arial"/>
              </a:rPr>
              <a:t>CYBER SECURITY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38" name="Rectangle 24"/>
          <p:cNvSpPr/>
          <p:nvPr/>
        </p:nvSpPr>
        <p:spPr>
          <a:xfrm>
            <a:off x="1921680" y="5613480"/>
            <a:ext cx="85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2eb2ff"/>
                </a:solidFill>
                <a:latin typeface="Arial"/>
              </a:rPr>
              <a:t>RF</a:t>
            </a:r>
            <a:endParaRPr b="0" lang="en-US" sz="4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39" name="Rectangle 25"/>
          <p:cNvSpPr/>
          <p:nvPr/>
        </p:nvSpPr>
        <p:spPr>
          <a:xfrm>
            <a:off x="6367680" y="1989000"/>
            <a:ext cx="2066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2eb2ff"/>
                </a:solidFill>
                <a:latin typeface="Arial"/>
              </a:rPr>
              <a:t>PHOTONICS</a:t>
            </a:r>
            <a:endParaRPr b="0" lang="en-US" sz="25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5040" y="264600"/>
            <a:ext cx="9048600" cy="10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a1"/>
                </a:solidFill>
                <a:latin typeface="Verdana"/>
              </a:rPr>
              <a:t>Full text content from all 38 IEEE Societies</a:t>
            </a:r>
            <a:endParaRPr b="0" lang="en-US" sz="28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95040" y="828360"/>
            <a:ext cx="4400280" cy="57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Verdana"/>
              </a:rPr>
              <a:t>IEEE Aerospace and Electronic Systems Society</a:t>
            </a:r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Verdana"/>
              </a:rPr>
              <a:t>IEEE Antennas and Propagation Society</a:t>
            </a:r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Verdana"/>
              </a:rPr>
              <a:t>IEEE Broadcast Technology Society</a:t>
            </a:r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Verdana"/>
              </a:rPr>
              <a:t>IEEE Circuits and Systems Society</a:t>
            </a:r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Verdana"/>
              </a:rPr>
              <a:t>IEEE Communications Society</a:t>
            </a:r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Verdana"/>
              </a:rPr>
              <a:t>IEEE Components, Packaging, and Manufacturing Technology Society</a:t>
            </a:r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Verdana"/>
              </a:rPr>
              <a:t>IEEE Computational Intelligence Society</a:t>
            </a:r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Verdana"/>
              </a:rPr>
              <a:t>IEEE Computer Society</a:t>
            </a:r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Verdana"/>
              </a:rPr>
              <a:t>IEEE Consumer Electronics Society</a:t>
            </a:r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Verdana"/>
              </a:rPr>
              <a:t>IEEE Control Systems Society</a:t>
            </a:r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Verdana"/>
              </a:rPr>
              <a:t>IEEE Dielectrics and Electrical Insulation Society</a:t>
            </a:r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Verdana"/>
              </a:rPr>
              <a:t>IEEE Education Society</a:t>
            </a:r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Verdana"/>
              </a:rPr>
              <a:t>IEEE Electron Devices Society</a:t>
            </a:r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Verdana"/>
              </a:rPr>
              <a:t>IEEE Electromagnetic Compatibility Society</a:t>
            </a:r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Verdana"/>
              </a:rPr>
              <a:t>IEEE Engineering in Medicine and Biology Society</a:t>
            </a:r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Verdana"/>
              </a:rPr>
              <a:t>IEEE Geoscience and Remote Sensing Society</a:t>
            </a:r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Verdana"/>
              </a:rPr>
              <a:t>IEEE Industrial Electronics Society</a:t>
            </a:r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Verdana"/>
              </a:rPr>
              <a:t>IEEE Industry Applications Society</a:t>
            </a:r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Verdana"/>
              </a:rPr>
              <a:t>IEEE Information Theory Society</a:t>
            </a:r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Verdana"/>
              </a:rPr>
              <a:t>IEEE Instrumentation and Measurement Society</a:t>
            </a:r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73440" y="755280"/>
            <a:ext cx="3810240" cy="57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Verdana"/>
              </a:rPr>
              <a:t>IEEE Intelligent Transportation Systems Society</a:t>
            </a:r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Verdana"/>
              </a:rPr>
              <a:t>IEEE Magnetics Society</a:t>
            </a:r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Verdana"/>
              </a:rPr>
              <a:t>IEEE Microwave Theory and Techniques Society</a:t>
            </a:r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Verdana"/>
              </a:rPr>
              <a:t>IEEE Nuclear and Plasma Sciences Society</a:t>
            </a:r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Verdana"/>
              </a:rPr>
              <a:t>IEEE Oceanic Engineering Society</a:t>
            </a:r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Verdana"/>
              </a:rPr>
              <a:t>IEEE Photonics Society</a:t>
            </a:r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Verdana"/>
              </a:rPr>
              <a:t>IEEE Power Electronics Society</a:t>
            </a:r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Verdana"/>
              </a:rPr>
              <a:t>IEEE Power &amp; Energy Society</a:t>
            </a:r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Verdana"/>
              </a:rPr>
              <a:t>IEEE Product Safety Engineering Society</a:t>
            </a:r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Verdana"/>
              </a:rPr>
              <a:t>IEEE Professional Communications Society</a:t>
            </a:r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Verdana"/>
              </a:rPr>
              <a:t>IEEE Reliability Society</a:t>
            </a:r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Verdana"/>
              </a:rPr>
              <a:t>IEEE Robotics and Automation Society</a:t>
            </a:r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Verdana"/>
              </a:rPr>
              <a:t>IEEE Signal Processing Society</a:t>
            </a:r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Verdana"/>
              </a:rPr>
              <a:t>IEEE Society on Social Implications of Technology</a:t>
            </a:r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Verdana"/>
              </a:rPr>
              <a:t>IEEE Solid-State Circuits Society</a:t>
            </a:r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Verdana"/>
              </a:rPr>
              <a:t>IEEE Systems, Man, and Cybernetics Society</a:t>
            </a:r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Verdana"/>
              </a:rPr>
              <a:t>IEEE Ultrasonics, Ferroelectrics, and Frequency Control Society</a:t>
            </a:r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Verdana"/>
              </a:rPr>
              <a:t>IEEE Vehicular Technology Society</a:t>
            </a:r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837720" y="801360"/>
            <a:ext cx="769644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More than 3.5 million full-text document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281160" indent="-281160">
              <a:lnSpc>
                <a:spcPct val="10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154+ IEEE journals &amp; magazine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281160" indent="-281160">
              <a:lnSpc>
                <a:spcPct val="10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1100+ annual IEEE conferences + 43 VDE conference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281160" indent="-281160">
              <a:lnSpc>
                <a:spcPct val="10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Approximately 3,000 IEEE standards including Redines &amp; </a:t>
            </a:r>
            <a:r>
              <a:rPr b="0" lang="en-US" sz="1800" spc="-1" strike="noStrike">
                <a:solidFill>
                  <a:srgbClr val="a6a6a6"/>
                </a:solidFill>
                <a:latin typeface="Arial"/>
                <a:ea typeface="Arial"/>
              </a:rPr>
              <a:t>Draft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281160" indent="-281160">
              <a:lnSpc>
                <a:spcPct val="10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IET conferences, journals &amp; magazine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281160" indent="-281160">
              <a:lnSpc>
                <a:spcPct val="10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Inspec index records for all article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281160" indent="-281160">
              <a:lnSpc>
                <a:spcPct val="10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Backfile to 1988, select legacy data back to 1872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281160" indent="-2811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Arial"/>
                <a:ea typeface="Arial"/>
              </a:rPr>
              <a:t>500+ eBook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281160" indent="-2811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Arial"/>
                <a:ea typeface="Arial"/>
              </a:rPr>
              <a:t>IBM Journal of Research &amp; Development + 2 Chinese Journal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281160" indent="-2811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Arial"/>
                <a:ea typeface="Arial"/>
              </a:rPr>
              <a:t>Over 200 Educational Course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281160" indent="-2811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Arial"/>
                <a:ea typeface="Arial"/>
              </a:rPr>
              <a:t>Five AIP/AVS journals         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Grey = access only to abstract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marL="28116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28116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51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a1"/>
                </a:solidFill>
                <a:latin typeface="Verdana"/>
                <a:ea typeface="Arial"/>
              </a:rPr>
              <a:t>IEEE Xplore Digital Library includes…</a:t>
            </a:r>
            <a:endParaRPr b="0" lang="en-US" sz="2800" spc="-1" strike="noStrike">
              <a:solidFill>
                <a:srgbClr val="0066a1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3" descr=""/>
          <p:cNvPicPr/>
          <p:nvPr/>
        </p:nvPicPr>
        <p:blipFill>
          <a:blip r:embed="rId1"/>
          <a:srcRect l="17017" t="10546" r="16715" b="11003"/>
          <a:stretch/>
        </p:blipFill>
        <p:spPr>
          <a:xfrm>
            <a:off x="198360" y="1471680"/>
            <a:ext cx="7416720" cy="494028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41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a1"/>
                </a:solidFill>
                <a:latin typeface="Verdana"/>
              </a:rPr>
              <a:t>IEEE Leads in Patent Citations</a:t>
            </a:r>
            <a:endParaRPr b="0" lang="en-US" sz="28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447" name="TextBox 2"/>
          <p:cNvSpPr/>
          <p:nvPr/>
        </p:nvSpPr>
        <p:spPr>
          <a:xfrm>
            <a:off x="-2095560" y="1523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cxnSp>
        <p:nvCxnSpPr>
          <p:cNvPr id="448" name="Elbow Connector 3"/>
          <p:cNvCxnSpPr/>
          <p:nvPr/>
        </p:nvCxnSpPr>
        <p:spPr>
          <a:xfrm flipH="1" rot="16200000">
            <a:off x="4616280" y="1958400"/>
            <a:ext cx="1677240" cy="1448640"/>
          </a:xfrm>
          <a:prstGeom prst="bentConnector3">
            <a:avLst>
              <a:gd name="adj1" fmla="val 99227"/>
            </a:avLst>
          </a:prstGeom>
          <a:ln w="9360">
            <a:solidFill>
              <a:srgbClr val="e37222"/>
            </a:solidFill>
            <a:round/>
          </a:ln>
        </p:spPr>
      </p:cxnSp>
      <p:sp>
        <p:nvSpPr>
          <p:cNvPr id="449" name="TextBox 5"/>
          <p:cNvSpPr/>
          <p:nvPr/>
        </p:nvSpPr>
        <p:spPr>
          <a:xfrm>
            <a:off x="304920" y="99540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baseline="30000">
                <a:solidFill>
                  <a:srgbClr val="404040"/>
                </a:solidFill>
                <a:latin typeface="Verdana"/>
              </a:rPr>
              <a:t>Top 20 Publishers Referenced Most Frequently by Top 40 Patenting Organizations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50" name="TextBox 11"/>
          <p:cNvSpPr/>
          <p:nvPr/>
        </p:nvSpPr>
        <p:spPr>
          <a:xfrm>
            <a:off x="5079960" y="4999680"/>
            <a:ext cx="4064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Verdana"/>
              </a:rPr>
              <a:t>Source: 1790 Analytics LLC 2013</a:t>
            </a:r>
            <a:endParaRPr b="0" lang="en-US" sz="1400" spc="-1" strike="noStrike">
              <a:solidFill>
                <a:srgbClr val="40404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Verdana"/>
              </a:rPr>
              <a:t>Publisher references compiled from 2012 USPTO patent filings</a:t>
            </a:r>
            <a:endParaRPr b="0" lang="en-US" sz="900" spc="-1" strike="noStrike">
              <a:solidFill>
                <a:srgbClr val="404040"/>
              </a:solidFill>
              <a:latin typeface="Arial"/>
            </a:endParaRPr>
          </a:p>
        </p:txBody>
      </p:sp>
      <p:grpSp>
        <p:nvGrpSpPr>
          <p:cNvPr id="451" name="Group 12"/>
          <p:cNvGrpSpPr/>
          <p:nvPr/>
        </p:nvGrpSpPr>
        <p:grpSpPr>
          <a:xfrm>
            <a:off x="5124600" y="2847960"/>
            <a:ext cx="3886200" cy="1295280"/>
            <a:chOff x="5124600" y="2847960"/>
            <a:chExt cx="3886200" cy="1295280"/>
          </a:xfrm>
        </p:grpSpPr>
        <p:sp>
          <p:nvSpPr>
            <p:cNvPr id="452" name="Rounded Rectangle 8"/>
            <p:cNvSpPr/>
            <p:nvPr/>
          </p:nvSpPr>
          <p:spPr>
            <a:xfrm>
              <a:off x="5124600" y="2847960"/>
              <a:ext cx="3886200" cy="1295280"/>
            </a:xfrm>
            <a:prstGeom prst="roundRect">
              <a:avLst>
                <a:gd name="adj" fmla="val 16667"/>
              </a:avLst>
            </a:prstGeom>
            <a:solidFill>
              <a:srgbClr val="e37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40404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404040"/>
                </a:solidFill>
                <a:latin typeface="Arial"/>
              </a:endParaRPr>
            </a:p>
          </p:txBody>
        </p:sp>
        <p:sp>
          <p:nvSpPr>
            <p:cNvPr id="453" name="TextBox 9"/>
            <p:cNvSpPr/>
            <p:nvPr/>
          </p:nvSpPr>
          <p:spPr>
            <a:xfrm>
              <a:off x="5124600" y="3076560"/>
              <a:ext cx="3886200" cy="104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2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000" spc="-1" strike="noStrike" baseline="30000">
                  <a:solidFill>
                    <a:srgbClr val="ffffff"/>
                  </a:solidFill>
                  <a:latin typeface="Verdana"/>
                </a:rPr>
                <a:t>IEEE is cited 3x</a:t>
              </a:r>
              <a:br>
                <a:rPr sz="3000"/>
              </a:br>
              <a:r>
                <a:rPr b="1" lang="en-US" sz="3000" spc="-1" strike="noStrike" baseline="30000">
                  <a:solidFill>
                    <a:srgbClr val="ffffff"/>
                  </a:solidFill>
                  <a:latin typeface="Verdana"/>
                </a:rPr>
                <a:t>more often than any other publisher</a:t>
              </a:r>
              <a:endParaRPr b="0" lang="en-US" sz="3000" spc="-1" strike="noStrike">
                <a:solidFill>
                  <a:srgbClr val="404040"/>
                </a:solidFill>
                <a:latin typeface="Arial"/>
              </a:endParaRPr>
            </a:p>
          </p:txBody>
        </p:sp>
      </p:grpSp>
      <p:sp>
        <p:nvSpPr>
          <p:cNvPr id="454" name="TextBox 12"/>
          <p:cNvSpPr/>
          <p:nvPr/>
        </p:nvSpPr>
        <p:spPr>
          <a:xfrm>
            <a:off x="1719360" y="1577880"/>
            <a:ext cx="7365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Arial"/>
              </a:rPr>
              <a:t>IEEE</a:t>
            </a:r>
            <a:endParaRPr b="0" lang="en-US" sz="12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8" descr="http://ieeexplore.ieee.org/ielx5/42/5968123/5968123.jpg"/>
          <p:cNvPicPr/>
          <p:nvPr/>
        </p:nvPicPr>
        <p:blipFill>
          <a:blip r:embed="rId1"/>
          <a:stretch/>
        </p:blipFill>
        <p:spPr>
          <a:xfrm>
            <a:off x="5108400" y="388620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456" name="Explosion 1 13"/>
          <p:cNvSpPr/>
          <p:nvPr/>
        </p:nvSpPr>
        <p:spPr>
          <a:xfrm flipV="1">
            <a:off x="380880" y="1371600"/>
            <a:ext cx="1295640" cy="838080"/>
          </a:xfrm>
          <a:prstGeom prst="irregularSeal1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367920" y="12981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Verdana"/>
              </a:rPr>
              <a:t>IEEE publishes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Verdana"/>
              </a:rPr>
              <a:t>17 of top 20 journals in Electrical and Electronic Engineering 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Verdana"/>
              </a:rPr>
              <a:t>8 of top 10 journals in Telecommunications 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Verdana"/>
              </a:rPr>
              <a:t>7 of top 10 journals in Automation &amp; Control System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Verdana"/>
              </a:rPr>
              <a:t>6 of top 10 journals in Computer Hardware &amp; Architecture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Verdana"/>
              </a:rPr>
              <a:t>4 of top 5 journals in Computer Science, Cybernetic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Verdana"/>
              </a:rPr>
              <a:t># 1 in Information System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Verdana"/>
              </a:rPr>
              <a:t># 1 in Telecommunication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Verdana"/>
              </a:rPr>
              <a:t># 1 in Artificial Intelligence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Verdana"/>
              </a:rPr>
              <a:t># 1 in Computer Hardware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Verdana"/>
              </a:rPr>
              <a:t># 1 in Automation and Control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Verdana"/>
              </a:rPr>
              <a:t># 1 in Transportation Science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58" name="Text Box 4"/>
          <p:cNvSpPr/>
          <p:nvPr/>
        </p:nvSpPr>
        <p:spPr>
          <a:xfrm>
            <a:off x="395280" y="5670720"/>
            <a:ext cx="7010280" cy="9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66a1"/>
                </a:solidFill>
                <a:latin typeface="Verdana"/>
              </a:rPr>
              <a:t>The ISI JCR presents “quantifiable statistical data that provides a systematic, objective way to evaluate the world’s leading journals” </a:t>
            </a:r>
            <a:endParaRPr b="0" lang="en-US" sz="1400" spc="-1" strike="noStrike">
              <a:solidFill>
                <a:srgbClr val="40404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Verdana"/>
              </a:rPr>
              <a:t>(2011 report released June 2012)</a:t>
            </a:r>
            <a:endParaRPr b="0" lang="en-US" sz="1400" spc="-1" strike="noStrike">
              <a:solidFill>
                <a:srgbClr val="40404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59" name="Rectangle 5"/>
          <p:cNvSpPr/>
          <p:nvPr/>
        </p:nvSpPr>
        <p:spPr>
          <a:xfrm>
            <a:off x="380880" y="368280"/>
            <a:ext cx="838224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66a1"/>
                </a:solidFill>
                <a:latin typeface="Verdana"/>
                <a:ea typeface="ＭＳ Ｐゴシック"/>
              </a:rPr>
              <a:t>Quality You Can Trust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marL="838080" indent="-838080"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  <a:ea typeface="ＭＳ Ｐゴシック"/>
              </a:rPr>
              <a:t>Journal Citation Report Results, by Impact Factor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460" name="Picture 5" descr="Signal Processing Magazine, IEEE"/>
          <p:cNvPicPr/>
          <p:nvPr/>
        </p:nvPicPr>
        <p:blipFill>
          <a:blip r:embed="rId2"/>
          <a:stretch/>
        </p:blipFill>
        <p:spPr>
          <a:xfrm>
            <a:off x="5402160" y="3787920"/>
            <a:ext cx="1241640" cy="16938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6" descr="http://s1.gigaimg.com/avaxhome/47/45/001a4547_medium.jpeg"/>
          <p:cNvPicPr/>
          <p:nvPr/>
        </p:nvPicPr>
        <p:blipFill>
          <a:blip r:embed="rId3"/>
          <a:stretch/>
        </p:blipFill>
        <p:spPr>
          <a:xfrm>
            <a:off x="6022800" y="3673440"/>
            <a:ext cx="1521000" cy="19256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462" name="Picture 2" descr=""/>
          <p:cNvPicPr/>
          <p:nvPr/>
        </p:nvPicPr>
        <p:blipFill>
          <a:blip r:embed="rId4"/>
          <a:stretch/>
        </p:blipFill>
        <p:spPr>
          <a:xfrm>
            <a:off x="6913440" y="3465360"/>
            <a:ext cx="1849680" cy="2419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25080" y="514080"/>
            <a:ext cx="8667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a1"/>
                </a:solidFill>
                <a:latin typeface="Verdana"/>
              </a:rPr>
              <a:t>New IEEE Journals in 2013</a:t>
            </a:r>
            <a:endParaRPr b="0" lang="en-US" sz="28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25440" y="1897200"/>
            <a:ext cx="621648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EEE Transactions on Cloud Computing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EEE Journal of Emerging and Selected Topics in Power Electronics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EEE Geoscience and Remote Sensing Magazine 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nd two journals translated to English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625320" indent="-342720"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hina Communications Magazine </a:t>
            </a:r>
            <a:br>
              <a:rPr sz="2000"/>
            </a:b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(from the China Institute of Communications)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625320" indent="-342720"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EEE RITA </a:t>
            </a:r>
            <a:br>
              <a:rPr sz="2000"/>
            </a:b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(Latin America learning technology journal)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465" name="Picture 2" descr=""/>
          <p:cNvPicPr/>
          <p:nvPr/>
        </p:nvPicPr>
        <p:blipFill>
          <a:blip r:embed="rId7"/>
          <a:stretch/>
        </p:blipFill>
        <p:spPr>
          <a:xfrm>
            <a:off x="6692760" y="1371600"/>
            <a:ext cx="2214720" cy="117648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3" descr=""/>
          <p:cNvPicPr/>
          <p:nvPr/>
        </p:nvPicPr>
        <p:blipFill>
          <a:blip r:embed="rId8">
            <a:lum bright="16000"/>
          </a:blip>
          <a:stretch/>
        </p:blipFill>
        <p:spPr>
          <a:xfrm>
            <a:off x="6711840" y="2705040"/>
            <a:ext cx="2132280" cy="12715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2" descr=""/>
          <p:cNvPicPr/>
          <p:nvPr/>
        </p:nvPicPr>
        <p:blipFill>
          <a:blip r:embed="rId9"/>
          <a:stretch/>
        </p:blipFill>
        <p:spPr>
          <a:xfrm>
            <a:off x="6711840" y="4135320"/>
            <a:ext cx="2132280" cy="170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98600" y="341280"/>
            <a:ext cx="755640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a1"/>
                </a:solidFill>
                <a:latin typeface="Verdana"/>
              </a:rPr>
              <a:t>New IEEE Journals in 2014</a:t>
            </a:r>
            <a:endParaRPr b="0" lang="en-US" sz="2800" spc="-1" strike="noStrike">
              <a:solidFill>
                <a:srgbClr val="0066a1"/>
              </a:solidFill>
              <a:latin typeface="Verdana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98240" y="1351080"/>
            <a:ext cx="3997080" cy="47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IEEE/CAA Journal of Automatica Sinica </a:t>
            </a:r>
            <a:r>
              <a:rPr b="0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covers the broad field of automation.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IEEE Cloud Computing </a:t>
            </a:r>
            <a:r>
              <a:rPr b="0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is a magazine of peer-reviewed articles that provide innovative research ideas, applications results, and case studies in all areas of cloud computing.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IEEE Transactions on Computational Social Systems </a:t>
            </a:r>
            <a:r>
              <a:rPr b="0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focuses on such topics as modeling, simulation, analysis, and understanding of social systems from the quantitative and/or computational perspective.. 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IEEE Transactions on Control of Network Systems </a:t>
            </a:r>
            <a:r>
              <a:rPr b="0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is committed to the timely publication of high-impact papers at the intersection of control systems and network science. 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647960" y="1212840"/>
            <a:ext cx="380988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2001"/>
              </a:spcBef>
              <a:buClr>
                <a:srgbClr val="40404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IEEE Electrification Magazine </a:t>
            </a:r>
            <a:r>
              <a:rPr b="0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is dedicated to disseminating information on all matters related to microgrids on board electric vehicles, ships, trains, planes, and off-grid applications.  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2001"/>
              </a:spcBef>
              <a:buClr>
                <a:srgbClr val="40404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IEEE Internet of Things Journal </a:t>
            </a:r>
            <a:r>
              <a:rPr b="0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will publish articles on the latest advances, as well as review articles on the various aspects of IoT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2001"/>
              </a:spcBef>
              <a:buClr>
                <a:srgbClr val="40404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IEEE Transactions on Network Science and Engineering </a:t>
            </a:r>
            <a:r>
              <a:rPr b="0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is committed to timely publishing of peer-reviewed technical articles on theory and applications of network science and the interconnections among the elements in a system that form a network.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2001"/>
              </a:spcBef>
              <a:buClr>
                <a:srgbClr val="40404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IEEE Power Electronics Magazine </a:t>
            </a:r>
            <a:r>
              <a:rPr b="0" lang="en-US" sz="1400" spc="-1" strike="noStrike">
                <a:solidFill>
                  <a:srgbClr val="404040"/>
                </a:solidFill>
                <a:latin typeface="Arial"/>
                <a:ea typeface="Arial"/>
              </a:rPr>
              <a:t>will publish peer-reviewed articles related to power electronics and its applications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0T13:55:30Z</dcterms:created>
  <dc:creator>kpoon User</dc:creator>
  <dc:description/>
  <dc:language>en-US</dc:language>
  <cp:lastModifiedBy>Cristiana Carratelli</cp:lastModifiedBy>
  <cp:lastPrinted>2011-05-20T21:07:31Z</cp:lastPrinted>
  <dcterms:modified xsi:type="dcterms:W3CDTF">2014-01-02T15:08:31Z</dcterms:modified>
  <cp:revision>536</cp:revision>
  <dc:subject/>
  <dc:title>PowerPoint Presentation</dc:title>
</cp:coreProperties>
</file>